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2B0C-BB89-4F4A-849B-1BC00943F09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BF86-2F97-486F-A39E-4658B69D8D8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e  is R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ijn er veel gemeen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B425-FEFF-4AD8-B15D-3BEE92C3AF8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ie wat waar mag dat vra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FC01-6BFC-4D2E-8BA9-720A622060C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voorbeeld van complexoverheidshandelen is het luchthaven indelingsbesl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it geeft a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e slopen objec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f en hoe hoog er mag worden gebouw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IB geldt in 80% van geme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DF3D-FBB1-4E03-A1CE-12AB2E4208B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1832-9979-485C-832E-47B17C5BA39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B9B-EDD0-4D6F-A782-B8832F29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6C2-A606-4225-A8B6-46120ADF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5047D-367B-4EAC-824A-2D3EAA02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04AB8-CFB7-4006-897A-D1706611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C03D7-1217-43C9-9DBE-A9F4169C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09BC7-173E-4B7D-928D-91A6582C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F1B2C-D5E7-48AA-BAF0-C55DA7FF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64982-9B0B-4356-ABCC-C5B401F8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35A26-C3DE-4E0E-BB31-0091CF0E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7FE0F-8C84-4A41-99D6-E09E6B4D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BEC26-65EC-41D4-97D0-EE256EFB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F515E-6702-44AE-BAFF-57BD0769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A989-86B3-4920-B35E-55695852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1C788-5E41-4D37-A681-6D558AC0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2D74F-20C8-4017-846E-184916E1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0C78C-F184-4584-B8F1-EB8ADD73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33679-FBF6-491D-853D-FCEAC1EE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F1DBA-1B65-435F-B800-409817A2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CC374-98AA-4CBB-A12B-E1F5025A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CD61E-1AAE-4F75-B27E-2CC82001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2CBC7-32B9-4E29-AA44-AFAA6E20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D5E97-118F-4CFC-B6E6-C6CABAD4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E30C3-12CA-4A65-9C24-99D5F6BF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8613-AC6C-4324-BDA4-76C9ACC6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3619C-D3B4-4F74-A8B7-A4DF230A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13E91-8B56-4E39-B8E5-C21F27A8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61D58-70E7-41B5-AA28-D21B4794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156F1-E312-4189-AAA1-CB657057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9B781-4379-4EE2-A43A-75CFB3BB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42516-1415-4233-BD5D-069778C3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EC3D4-6734-4DB8-9593-098C9A29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63D97-0EC0-4800-99A5-AAE5EF8E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E00E2-4A12-4987-A966-0E6F145C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78C04-0B06-4319-9186-E0C48CF3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853B-4523-48C1-83DF-EF390B8E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51E48-22C7-4A55-B1A0-B98D803C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ADB1A-05A3-4372-A654-6243E29A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03EC5-1EF5-4D22-ADD4-C963E5E1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E7DC1-3E75-4214-9B8C-9CE4CC80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479B5-B4B9-40B2-8EFA-F5B55B78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D448A-5F9E-40CB-A394-432A622C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8E31F-898E-4E60-A42A-334B4CF2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6A8C9-4267-4315-8DEE-C529B5E2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2F5E1-9D5F-4665-839C-1941693A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24906-84EB-46DF-843E-E092DEF7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5A49-651B-47C7-922B-CF384CA5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A567E-BFB9-4D99-9B75-80BE3F9B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D539D-5EB8-4F6B-A25B-90340C84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76E60-A26B-43C6-8A95-5B7C70FE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92FB9-76A9-49F4-AACB-35910AB0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D4028-3F33-4BC6-BE32-5BCBFB30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F808-5523-439B-86FC-6721F78C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DEC8-2462-4D77-9776-22E02537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C5B1-BC6F-4AC3-A1AA-DDA635DD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47F4-7D97-4212-99EB-AB81DB4B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9288-75B1-4406-B4D5-59219CF7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D24-8645-4944-A6CD-1377E267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2148-649D-462A-AD27-CB6822D6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835F-438C-4DB9-9147-3A9B9EBB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11A5-E924-49D7-A85F-69C5E106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51CE-9A70-47A3-8A4C-777D79E9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8AC8-758E-4D14-A2AF-1A50EC5B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AA0F4-8FE4-49D4-8DDF-776F690F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2B868-21EF-4827-91A4-49EA2A51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0F8E3-99E9-4ADE-A389-FB934D98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1A947-F4CD-40BF-A4A5-AC7F4365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A8F91-1891-42A0-A6BF-D39A33CF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C604-5714-4B62-AF4D-6941D9CB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2BC86-19A7-49B1-AE0D-A604B7A6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91704-1E3F-4E0D-8E4A-04350E47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6B25C-AFE4-40AD-A6E6-4362BA63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29125-BE1B-4AB1-907C-5950AF4D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48680-EAF0-4524-8099-14420040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D2585-37DB-4319-BA2D-AEBC8A55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1D557-61CF-403C-97E5-ABCFDBB7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4AE4F-EB57-45B0-A7FF-16255713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33627-0145-4658-B6E3-96155DF4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D776D-C853-413F-942F-408EDB88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408-1699-461C-8B37-5E429BB6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6E183-C4EF-4D2E-BDB4-58C173A1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AF366-669C-4531-8B3D-2FE49E07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E7006-42FA-4BFB-B54C-3C1984AE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35188-D78A-41FE-A8E6-B2C83754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41CBD-11D6-4502-86E0-3C4E9354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DF2DF-EA2B-4EE1-B197-88E9AE12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079FE-15D5-469F-8FAD-FBD4536D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6BF2E-90E5-4192-84B3-24406404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5992F-6F23-4259-BC22-52FA2207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AF3A6-195D-4E0E-ACB5-62CB7414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9423-EB93-4B98-9A48-9C04B53B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0E311-1CFE-4E35-9EEF-40989F8E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CF976-1ABA-4C1D-8640-C5878A20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14324-BDC4-41A7-BDC5-B467517C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5081F-7C53-4911-8A20-CF484A62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29C0B-26F4-4158-8839-B0E0D0A1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D6337-9B19-462C-9C4E-E62F7E36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D04FC-F54C-41D7-B103-40305408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663D5-0776-4A74-BD20-ABDC4282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EDDE2-16E7-411B-B0A4-7FCCA063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D8CC6-15D1-413E-A4B6-020709A7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8F9-8DBB-46BE-AEB4-B9027725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5BD82-70FE-493F-A66A-32420764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719B8-584C-4877-A378-42C0BDE7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7672F-E9DF-44FE-BE4D-2299ECD5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9C1BE-4ADC-4151-B6F8-12E7DC11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66329-4367-40B9-908D-590DD14A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55E1A-C63D-409C-BAF2-D9B2AD67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516EB-437B-4FC6-A3AE-B00136D2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30895-E46F-4714-A6AF-23D1C5A9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F33DD-918C-4432-9602-A43C55D8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2E4C6-7B69-4538-ADB0-D2DFA55B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1255-14E9-4562-835F-4D1806BE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1BDF0-54F2-4615-9A15-0201D050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D8B0F-9410-4F6C-BEFF-05E56A6D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F640C-C09F-44D7-A91C-E9A0FB80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83C78-092E-4F9E-BB35-47078CA8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7DD26-FF90-48BF-8AC6-9825265F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FF978-2DE9-4965-8B93-4F277C1D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D1AD0-358E-4829-B625-7B12EF79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BBD95-2474-40AA-939D-346FFB4F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8FF8F-A74D-4286-A317-2E004BF8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0E3DE-7AE1-4467-A432-DD860412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FF18-7E91-4D0D-B742-F5449687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F8ADB-7BAF-499C-81C0-2513F6F0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FCD11-673C-4D53-96BF-6BC156A9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0E3DB-8111-4DB9-8AB1-9C980578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747BD-FEFC-48B8-9CDA-68922142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A1BF4-69C6-40C7-BAA4-B36F0E81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91A61-A2FE-4A36-81DB-66318BFD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4D966-4856-45C9-BB3E-029BB305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67B1D-8747-4B9B-8B46-A82609C7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B0698-5355-4DE5-86E4-487C65A9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70507-F088-422C-8CC4-E6F49C69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AEB4-E586-4A21-A275-5683DD85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5EDC8-3417-46F4-B6B9-9FF711AC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EBD14-52E3-4174-B5BE-9B86A4D9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B9628-309A-4D61-8168-549DA762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ED785-42E5-4688-8302-B3B3E402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05114-50F4-4FDD-88FD-CD4E0BEB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B95E3-F02D-4A5A-A01B-3105EBD4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49CF6-2D8E-47D3-8C66-209F2BE6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ED76C-2400-415A-B5BD-EE7EDAE4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A1973-4261-4147-B32A-39A4EE89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2DCF1-F7B8-4CCA-A631-3AF062CA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723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B5CA-80DB-4554-8019-5C065C3C0DB6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3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9AD8-92F9-49B0-83E8-9FAF5BC31514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723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00FF-B384-405E-BFC3-6BD890D33CD6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5943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E301-0F6F-40E5-9F60-03FA599C32A8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723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00BC-D94F-485B-98CB-DA7480486178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5943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DAE2-3F1D-43B5-8BBA-5E376750DAA8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723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5867-C647-498F-B17A-4DA537EAAD88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5943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1412-0747-434F-97FD-74A4E1B6211D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723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DCF5-5290-470C-AFCA-F8CCB10AEF63}" type="datetime">
              <a:rPr b="0" lang="nl-NL" sz="10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5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Presenta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07696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629A-8ED3-4922-8C08-8B6347FA374B}" type="slidenum">
              <a:rPr b="1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723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6AA7-70A6-4BAB-A89B-B32DD6A70324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5943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6B3B-8CE6-4360-8464-5D456651C226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723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45E2-97AE-426E-B697-9D24C97A0336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5943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39FA-4C16-4B4B-B2E3-34BFE86001CA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723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C694-BDAD-4F2A-99A2-61F0E0162D36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5943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22CD-6BA5-4CD7-B51C-414F383450EE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723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574A-0E58-4969-915D-F66E63D6B6EC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5943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B912-26A0-45C4-80BB-F52F1B5E97AE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723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3E9C-05D4-44B3-9370-5CA7EBB57081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5943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4888-065C-445F-A3EC-A657852FEC6D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723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308E-6FE3-44D8-A7DE-D1E3BD744D6A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5943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2CEB-5865-4FFE-A4FA-345578C16049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723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5CC0-AE64-4E69-8E83-5C345D40B675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5943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4052-A029-4EC1-AE39-A33450564758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716000" y="3957480"/>
            <a:ext cx="4038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arlemmermeer en VROM in het stelsel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 oktober 2009</a:t>
            </a:r>
            <a:endParaRPr b="1" lang="en-US" sz="16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340200" y="5299200"/>
            <a:ext cx="3283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ff"/>
                </a:solidFill>
                <a:latin typeface="Arial"/>
              </a:rPr>
              <a:t>Rik Duur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ff"/>
                </a:solidFill>
                <a:latin typeface="Arial"/>
              </a:rPr>
              <a:t>gegevens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9999"/>
                </a:solidFill>
                <a:latin typeface="Arial"/>
              </a:rPr>
              <a:t>h.duursma@haarlemmermeer.n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Group 1024"/>
          <p:cNvGrpSpPr/>
          <p:nvPr/>
        </p:nvGrpSpPr>
        <p:grpSpPr>
          <a:xfrm>
            <a:off x="5237280" y="4757760"/>
            <a:ext cx="2417400" cy="1889280"/>
            <a:chOff x="5237280" y="4757760"/>
            <a:chExt cx="2417400" cy="1889280"/>
          </a:xfrm>
        </p:grpSpPr>
        <p:grpSp>
          <p:nvGrpSpPr>
            <p:cNvPr id="514" name="Group 1025"/>
            <p:cNvGrpSpPr/>
            <p:nvPr/>
          </p:nvGrpSpPr>
          <p:grpSpPr>
            <a:xfrm>
              <a:off x="5253120" y="5044680"/>
              <a:ext cx="2401560" cy="1602360"/>
              <a:chOff x="5253120" y="5044680"/>
              <a:chExt cx="2401560" cy="1602360"/>
            </a:xfrm>
          </p:grpSpPr>
          <p:sp>
            <p:nvSpPr>
              <p:cNvPr id="515" name="Freeform 1026"/>
              <p:cNvSpPr/>
              <p:nvPr/>
            </p:nvSpPr>
            <p:spPr>
              <a:xfrm>
                <a:off x="5929200" y="5044680"/>
                <a:ext cx="994320" cy="533880"/>
              </a:xfrm>
              <a:prstGeom prst="pie">
                <a:avLst/>
              </a:prstGeom>
              <a:solidFill>
                <a:srgbClr val="5f009f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1027"/>
              <p:cNvSpPr/>
              <p:nvPr/>
            </p:nvSpPr>
            <p:spPr>
              <a:xfrm>
                <a:off x="6738480" y="5507280"/>
                <a:ext cx="795600" cy="682920"/>
              </a:xfrm>
              <a:prstGeom prst="pie">
                <a:avLst/>
              </a:prstGeom>
              <a:solidFill>
                <a:srgbClr val="00ffff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1028"/>
              <p:cNvSpPr/>
              <p:nvPr/>
            </p:nvSpPr>
            <p:spPr>
              <a:xfrm>
                <a:off x="5996880" y="5403240"/>
                <a:ext cx="950040" cy="726480"/>
              </a:xfrm>
              <a:prstGeom prst="pie">
                <a:avLst/>
              </a:prstGeom>
              <a:solidFill>
                <a:srgbClr val="008000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1029"/>
              <p:cNvSpPr/>
              <p:nvPr/>
            </p:nvSpPr>
            <p:spPr>
              <a:xfrm>
                <a:off x="6741000" y="5044680"/>
                <a:ext cx="690840" cy="617760"/>
              </a:xfrm>
              <a:prstGeom prst="pie">
                <a:avLst/>
              </a:prstGeom>
              <a:solidFill>
                <a:srgbClr val="ff5f00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1030"/>
              <p:cNvSpPr/>
              <p:nvPr/>
            </p:nvSpPr>
            <p:spPr>
              <a:xfrm>
                <a:off x="5336640" y="5522400"/>
                <a:ext cx="855720" cy="701640"/>
              </a:xfrm>
              <a:prstGeom prst="pie">
                <a:avLst/>
              </a:prstGeom>
              <a:solidFill>
                <a:srgbClr val="ff00ff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Group 1031"/>
              <p:cNvGrpSpPr/>
              <p:nvPr/>
            </p:nvGrpSpPr>
            <p:grpSpPr>
              <a:xfrm>
                <a:off x="5995080" y="5920920"/>
                <a:ext cx="822600" cy="726120"/>
                <a:chOff x="5995080" y="5920920"/>
                <a:chExt cx="822600" cy="726120"/>
              </a:xfrm>
            </p:grpSpPr>
            <p:sp>
              <p:nvSpPr>
                <p:cNvPr id="521" name="Rectangle 1032"/>
                <p:cNvSpPr/>
                <p:nvPr/>
              </p:nvSpPr>
              <p:spPr>
                <a:xfrm>
                  <a:off x="6076080" y="6552000"/>
                  <a:ext cx="673200" cy="95040"/>
                </a:xfrm>
                <a:prstGeom prst="rect">
                  <a:avLst/>
                </a:prstGeom>
                <a:solidFill>
                  <a:srgbClr val="808000"/>
                </a:solidFill>
                <a:ln w="10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1033"/>
                <p:cNvSpPr/>
                <p:nvPr/>
              </p:nvSpPr>
              <p:spPr>
                <a:xfrm>
                  <a:off x="5995080" y="5920920"/>
                  <a:ext cx="822600" cy="628200"/>
                </a:xfrm>
                <a:prstGeom prst="pie">
                  <a:avLst/>
                </a:prstGeom>
                <a:solidFill>
                  <a:srgbClr val="ffff00"/>
                </a:solidFill>
                <a:ln w="10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Group 1034"/>
              <p:cNvGrpSpPr/>
              <p:nvPr/>
            </p:nvGrpSpPr>
            <p:grpSpPr>
              <a:xfrm>
                <a:off x="5253120" y="6027120"/>
                <a:ext cx="889920" cy="618840"/>
                <a:chOff x="5253120" y="6027120"/>
                <a:chExt cx="889920" cy="618840"/>
              </a:xfrm>
            </p:grpSpPr>
            <p:sp>
              <p:nvSpPr>
                <p:cNvPr id="524" name="Freeform 1035"/>
                <p:cNvSpPr/>
                <p:nvPr/>
              </p:nvSpPr>
              <p:spPr>
                <a:xfrm>
                  <a:off x="5253120" y="6027120"/>
                  <a:ext cx="889920" cy="525240"/>
                </a:xfrm>
                <a:prstGeom prst="pie">
                  <a:avLst/>
                </a:prstGeom>
                <a:solidFill>
                  <a:srgbClr val="9f3fdf"/>
                </a:solidFill>
                <a:ln w="10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Rectangle 1036"/>
                <p:cNvSpPr/>
                <p:nvPr/>
              </p:nvSpPr>
              <p:spPr>
                <a:xfrm>
                  <a:off x="5253120" y="6552720"/>
                  <a:ext cx="822240" cy="93240"/>
                </a:xfrm>
                <a:prstGeom prst="rect">
                  <a:avLst/>
                </a:prstGeom>
                <a:solidFill>
                  <a:srgbClr val="5f009f"/>
                </a:solidFill>
                <a:ln w="10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Group 1037"/>
              <p:cNvGrpSpPr/>
              <p:nvPr/>
            </p:nvGrpSpPr>
            <p:grpSpPr>
              <a:xfrm>
                <a:off x="6612480" y="6014160"/>
                <a:ext cx="1042200" cy="632880"/>
                <a:chOff x="6612480" y="6014160"/>
                <a:chExt cx="1042200" cy="632880"/>
              </a:xfrm>
            </p:grpSpPr>
            <p:sp>
              <p:nvSpPr>
                <p:cNvPr id="527" name="Freeform 1038"/>
                <p:cNvSpPr/>
                <p:nvPr/>
              </p:nvSpPr>
              <p:spPr>
                <a:xfrm>
                  <a:off x="6612480" y="6014160"/>
                  <a:ext cx="1042200" cy="536400"/>
                </a:xfrm>
                <a:prstGeom prst="pie">
                  <a:avLst/>
                </a:prstGeom>
                <a:solidFill>
                  <a:srgbClr val="0000ff"/>
                </a:solidFill>
                <a:ln w="10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Rectangle 1039"/>
                <p:cNvSpPr/>
                <p:nvPr/>
              </p:nvSpPr>
              <p:spPr>
                <a:xfrm>
                  <a:off x="6752160" y="6550920"/>
                  <a:ext cx="902520" cy="96120"/>
                </a:xfrm>
                <a:prstGeom prst="rect">
                  <a:avLst/>
                </a:prstGeom>
                <a:solidFill>
                  <a:srgbClr val="000080"/>
                </a:solidFill>
                <a:ln w="10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9" name="Group 1040"/>
            <p:cNvGrpSpPr/>
            <p:nvPr/>
          </p:nvGrpSpPr>
          <p:grpSpPr>
            <a:xfrm>
              <a:off x="5237280" y="4757760"/>
              <a:ext cx="698400" cy="685440"/>
              <a:chOff x="5237280" y="4757760"/>
              <a:chExt cx="698400" cy="685440"/>
            </a:xfrm>
          </p:grpSpPr>
          <p:sp>
            <p:nvSpPr>
              <p:cNvPr id="530" name="Freeform 1041"/>
              <p:cNvSpPr/>
              <p:nvPr/>
            </p:nvSpPr>
            <p:spPr>
              <a:xfrm>
                <a:off x="5237280" y="4757760"/>
                <a:ext cx="698400" cy="685440"/>
              </a:xfrm>
              <a:prstGeom prst="pie">
                <a:avLst/>
              </a:prstGeom>
              <a:solidFill>
                <a:srgbClr val="e6f0c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1042"/>
              <p:cNvSpPr/>
              <p:nvPr/>
            </p:nvSpPr>
            <p:spPr>
              <a:xfrm>
                <a:off x="5312880" y="4792320"/>
                <a:ext cx="340920" cy="33048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1043"/>
              <p:cNvSpPr/>
              <p:nvPr/>
            </p:nvSpPr>
            <p:spPr>
              <a:xfrm>
                <a:off x="5371920" y="4938480"/>
                <a:ext cx="372600" cy="39420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1044"/>
              <p:cNvSpPr/>
              <p:nvPr/>
            </p:nvSpPr>
            <p:spPr>
              <a:xfrm>
                <a:off x="5237280" y="4757760"/>
                <a:ext cx="698400" cy="685440"/>
              </a:xfrm>
              <a:prstGeom prst="pie">
                <a:avLst/>
              </a:prstGeom>
              <a:noFill/>
              <a:ln cap="rnd" w="5724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1045"/>
              <p:cNvSpPr/>
              <p:nvPr/>
            </p:nvSpPr>
            <p:spPr>
              <a:xfrm>
                <a:off x="5284080" y="4758120"/>
                <a:ext cx="344880" cy="252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Freeform 1046"/>
              <p:cNvSpPr/>
              <p:nvPr/>
            </p:nvSpPr>
            <p:spPr>
              <a:xfrm>
                <a:off x="5394240" y="4964760"/>
                <a:ext cx="234720" cy="246240"/>
              </a:xfrm>
              <a:prstGeom prst="pie">
                <a:avLst/>
              </a:prstGeom>
              <a:solidFill>
                <a:srgbClr val="cc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Freeform 1047"/>
              <p:cNvSpPr/>
              <p:nvPr/>
            </p:nvSpPr>
            <p:spPr>
              <a:xfrm>
                <a:off x="5309280" y="4758120"/>
                <a:ext cx="168480" cy="1274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1048"/>
              <p:cNvSpPr/>
              <p:nvPr/>
            </p:nvSpPr>
            <p:spPr>
              <a:xfrm>
                <a:off x="5312880" y="4991400"/>
                <a:ext cx="164880" cy="341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1049"/>
              <p:cNvSpPr/>
              <p:nvPr/>
            </p:nvSpPr>
            <p:spPr>
              <a:xfrm>
                <a:off x="5284080" y="4758120"/>
                <a:ext cx="344880" cy="252360"/>
              </a:xfrm>
              <a:prstGeom prst="pie">
                <a:avLst/>
              </a:prstGeom>
              <a:solidFill>
                <a:srgbClr val="9b9b9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1050"/>
              <p:cNvSpPr/>
              <p:nvPr/>
            </p:nvSpPr>
            <p:spPr>
              <a:xfrm>
                <a:off x="5478480" y="5134320"/>
                <a:ext cx="266400" cy="198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1051"/>
              <p:cNvSpPr/>
              <p:nvPr/>
            </p:nvSpPr>
            <p:spPr>
              <a:xfrm>
                <a:off x="5585400" y="4792320"/>
                <a:ext cx="159480" cy="341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1052"/>
              <p:cNvSpPr/>
              <p:nvPr/>
            </p:nvSpPr>
            <p:spPr>
              <a:xfrm>
                <a:off x="5578920" y="4938480"/>
                <a:ext cx="74880" cy="48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1053"/>
              <p:cNvSpPr/>
              <p:nvPr/>
            </p:nvSpPr>
            <p:spPr>
              <a:xfrm>
                <a:off x="5371920" y="5085360"/>
                <a:ext cx="53280" cy="33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WordArt 1054"/>
              <p:cNvSpPr txBox="1"/>
              <p:nvPr/>
            </p:nvSpPr>
            <p:spPr>
              <a:xfrm rot="3678600">
                <a:off x="5490000" y="5045760"/>
                <a:ext cx="82440" cy="93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</a:t>
                </a:r>
                <a:endPara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44" name="WordArt 1055"/>
              <p:cNvSpPr txBox="1"/>
              <p:nvPr/>
            </p:nvSpPr>
            <p:spPr>
              <a:xfrm rot="3462600">
                <a:off x="5403960" y="4779000"/>
                <a:ext cx="67320" cy="93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v</a:t>
                </a:r>
                <a:endPara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FE7E-0E64-43ED-977F-23320931B8F3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49DF-7350-402D-AB17-9FC92937AE26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339999"/>
              </a:solidFill>
              <a:latin typeface="Arial"/>
            </a:endParaRPr>
          </a:p>
        </p:txBody>
      </p:sp>
      <p:grpSp>
        <p:nvGrpSpPr>
          <p:cNvPr id="592" name="Group 4"/>
          <p:cNvGrpSpPr/>
          <p:nvPr/>
        </p:nvGrpSpPr>
        <p:grpSpPr>
          <a:xfrm>
            <a:off x="826920" y="255600"/>
            <a:ext cx="7290000" cy="6684840"/>
            <a:chOff x="826920" y="255600"/>
            <a:chExt cx="7290000" cy="6684840"/>
          </a:xfrm>
        </p:grpSpPr>
        <p:sp>
          <p:nvSpPr>
            <p:cNvPr id="593" name="AutoShape 5"/>
            <p:cNvSpPr/>
            <p:nvPr/>
          </p:nvSpPr>
          <p:spPr>
            <a:xfrm>
              <a:off x="826920" y="255600"/>
              <a:ext cx="7290000" cy="66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Oval 6"/>
            <p:cNvSpPr/>
            <p:nvPr/>
          </p:nvSpPr>
          <p:spPr>
            <a:xfrm>
              <a:off x="6990840" y="2195640"/>
              <a:ext cx="746280" cy="7491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Oval 7"/>
            <p:cNvSpPr/>
            <p:nvPr/>
          </p:nvSpPr>
          <p:spPr>
            <a:xfrm>
              <a:off x="2083680" y="1239120"/>
              <a:ext cx="4728240" cy="46454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Oval 8"/>
            <p:cNvSpPr/>
            <p:nvPr/>
          </p:nvSpPr>
          <p:spPr>
            <a:xfrm>
              <a:off x="1987560" y="1143000"/>
              <a:ext cx="4903200" cy="4834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Oval 9"/>
            <p:cNvSpPr/>
            <p:nvPr/>
          </p:nvSpPr>
          <p:spPr>
            <a:xfrm>
              <a:off x="3721680" y="2887560"/>
              <a:ext cx="1372320" cy="1400760"/>
            </a:xfrm>
            <a:prstGeom prst="ellipse">
              <a:avLst/>
            </a:prstGeom>
            <a:solidFill>
              <a:srgbClr val="ed55d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Oval 10"/>
            <p:cNvSpPr/>
            <p:nvPr/>
          </p:nvSpPr>
          <p:spPr>
            <a:xfrm>
              <a:off x="1502640" y="1291680"/>
              <a:ext cx="816840" cy="81792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Oval 11"/>
            <p:cNvSpPr/>
            <p:nvPr/>
          </p:nvSpPr>
          <p:spPr>
            <a:xfrm>
              <a:off x="3349440" y="2504880"/>
              <a:ext cx="2180160" cy="21787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2"/>
            <p:cNvSpPr/>
            <p:nvPr/>
          </p:nvSpPr>
          <p:spPr>
            <a:xfrm flipV="1">
              <a:off x="4439520" y="4274640"/>
              <a:ext cx="0" cy="74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3"/>
            <p:cNvSpPr/>
            <p:nvPr/>
          </p:nvSpPr>
          <p:spPr>
            <a:xfrm flipH="1">
              <a:off x="4888440" y="1651680"/>
              <a:ext cx="1112400" cy="143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4"/>
            <p:cNvSpPr/>
            <p:nvPr/>
          </p:nvSpPr>
          <p:spPr>
            <a:xfrm>
              <a:off x="3443400" y="1073880"/>
              <a:ext cx="752760" cy="181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Oval 15"/>
            <p:cNvSpPr/>
            <p:nvPr/>
          </p:nvSpPr>
          <p:spPr>
            <a:xfrm>
              <a:off x="6330240" y="1121760"/>
              <a:ext cx="815760" cy="8182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Oval 16"/>
            <p:cNvSpPr/>
            <p:nvPr/>
          </p:nvSpPr>
          <p:spPr>
            <a:xfrm>
              <a:off x="2969640" y="255600"/>
              <a:ext cx="815760" cy="8182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7"/>
            <p:cNvSpPr/>
            <p:nvPr/>
          </p:nvSpPr>
          <p:spPr>
            <a:xfrm flipV="1">
              <a:off x="4439520" y="5841000"/>
              <a:ext cx="0" cy="27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Oval 18"/>
            <p:cNvSpPr/>
            <p:nvPr/>
          </p:nvSpPr>
          <p:spPr>
            <a:xfrm>
              <a:off x="7094880" y="2980800"/>
              <a:ext cx="1021680" cy="109008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9"/>
            <p:cNvSpPr/>
            <p:nvPr/>
          </p:nvSpPr>
          <p:spPr>
            <a:xfrm>
              <a:off x="1847880" y="3525840"/>
              <a:ext cx="151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20"/>
            <p:cNvSpPr/>
            <p:nvPr/>
          </p:nvSpPr>
          <p:spPr>
            <a:xfrm>
              <a:off x="5534280" y="3524400"/>
              <a:ext cx="1560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 Box 21"/>
            <p:cNvSpPr/>
            <p:nvPr/>
          </p:nvSpPr>
          <p:spPr>
            <a:xfrm>
              <a:off x="7231320" y="3303720"/>
              <a:ext cx="6091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0000"/>
                  </a:solidFill>
                  <a:latin typeface="Arial"/>
                </a:rPr>
                <a:t>T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Text Box 22"/>
            <p:cNvSpPr/>
            <p:nvPr/>
          </p:nvSpPr>
          <p:spPr>
            <a:xfrm>
              <a:off x="3991320" y="3225600"/>
              <a:ext cx="89100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500" spc="-1" strike="noStrike">
                  <a:solidFill>
                    <a:srgbClr val="ffff00"/>
                  </a:solidFill>
                  <a:latin typeface="Arial"/>
                </a:rPr>
                <a:t>DATA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500" spc="-1" strike="noStrike">
                  <a:solidFill>
                    <a:srgbClr val="ffff00"/>
                  </a:solidFill>
                  <a:latin typeface="Arial"/>
                </a:rPr>
                <a:t>centru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23"/>
            <p:cNvSpPr/>
            <p:nvPr/>
          </p:nvSpPr>
          <p:spPr>
            <a:xfrm>
              <a:off x="3103200" y="517320"/>
              <a:ext cx="6145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NH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4"/>
            <p:cNvSpPr/>
            <p:nvPr/>
          </p:nvSpPr>
          <p:spPr>
            <a:xfrm>
              <a:off x="6400440" y="1359000"/>
              <a:ext cx="6807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B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Oval 25"/>
            <p:cNvSpPr/>
            <p:nvPr/>
          </p:nvSpPr>
          <p:spPr>
            <a:xfrm>
              <a:off x="4058280" y="291600"/>
              <a:ext cx="816840" cy="818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26"/>
            <p:cNvSpPr/>
            <p:nvPr/>
          </p:nvSpPr>
          <p:spPr>
            <a:xfrm>
              <a:off x="4059000" y="453600"/>
              <a:ext cx="8175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LV-BG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27"/>
            <p:cNvSpPr/>
            <p:nvPr/>
          </p:nvSpPr>
          <p:spPr>
            <a:xfrm>
              <a:off x="4352400" y="6318000"/>
              <a:ext cx="1364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28"/>
            <p:cNvSpPr/>
            <p:nvPr/>
          </p:nvSpPr>
          <p:spPr>
            <a:xfrm>
              <a:off x="2241360" y="5432040"/>
              <a:ext cx="174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Oval 29"/>
            <p:cNvSpPr/>
            <p:nvPr/>
          </p:nvSpPr>
          <p:spPr>
            <a:xfrm>
              <a:off x="5098680" y="313920"/>
              <a:ext cx="816840" cy="8182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30"/>
            <p:cNvSpPr/>
            <p:nvPr/>
          </p:nvSpPr>
          <p:spPr>
            <a:xfrm>
              <a:off x="5200920" y="604440"/>
              <a:ext cx="6127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B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31"/>
            <p:cNvSpPr/>
            <p:nvPr/>
          </p:nvSpPr>
          <p:spPr>
            <a:xfrm flipH="1">
              <a:off x="5022360" y="2233080"/>
              <a:ext cx="1444320" cy="103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32"/>
            <p:cNvSpPr/>
            <p:nvPr/>
          </p:nvSpPr>
          <p:spPr>
            <a:xfrm flipH="1" flipV="1">
              <a:off x="5079240" y="3697200"/>
              <a:ext cx="2180160" cy="74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33"/>
            <p:cNvSpPr/>
            <p:nvPr/>
          </p:nvSpPr>
          <p:spPr>
            <a:xfrm>
              <a:off x="5073120" y="5977800"/>
              <a:ext cx="816840" cy="8182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34"/>
            <p:cNvSpPr/>
            <p:nvPr/>
          </p:nvSpPr>
          <p:spPr>
            <a:xfrm>
              <a:off x="5073120" y="6113160"/>
              <a:ext cx="7812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Omg-Lo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35"/>
            <p:cNvSpPr/>
            <p:nvPr/>
          </p:nvSpPr>
          <p:spPr>
            <a:xfrm flipH="1">
              <a:off x="2487240" y="3998880"/>
              <a:ext cx="1382760" cy="106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Oval 36"/>
            <p:cNvSpPr/>
            <p:nvPr/>
          </p:nvSpPr>
          <p:spPr>
            <a:xfrm>
              <a:off x="2591280" y="4258440"/>
              <a:ext cx="816120" cy="8424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Text Box 37"/>
            <p:cNvSpPr/>
            <p:nvPr/>
          </p:nvSpPr>
          <p:spPr>
            <a:xfrm>
              <a:off x="2681280" y="4413240"/>
              <a:ext cx="6667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ff0000"/>
                  </a:solidFill>
                  <a:latin typeface="Arial"/>
                </a:rPr>
                <a:t>App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ff0000"/>
                  </a:solidFill>
                  <a:latin typeface="Arial"/>
                </a:rPr>
                <a:t>CW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8"/>
            <p:cNvSpPr/>
            <p:nvPr/>
          </p:nvSpPr>
          <p:spPr>
            <a:xfrm flipH="1" flipV="1">
              <a:off x="1910880" y="2642760"/>
              <a:ext cx="213120" cy="10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Oval 39"/>
            <p:cNvSpPr/>
            <p:nvPr/>
          </p:nvSpPr>
          <p:spPr>
            <a:xfrm>
              <a:off x="6701040" y="4877280"/>
              <a:ext cx="747720" cy="8164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40"/>
            <p:cNvSpPr/>
            <p:nvPr/>
          </p:nvSpPr>
          <p:spPr>
            <a:xfrm>
              <a:off x="4670640" y="4242240"/>
              <a:ext cx="681480" cy="177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Oval 41"/>
            <p:cNvSpPr/>
            <p:nvPr/>
          </p:nvSpPr>
          <p:spPr>
            <a:xfrm>
              <a:off x="1078920" y="4437360"/>
              <a:ext cx="788040" cy="783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42"/>
            <p:cNvSpPr/>
            <p:nvPr/>
          </p:nvSpPr>
          <p:spPr>
            <a:xfrm>
              <a:off x="1091880" y="4705200"/>
              <a:ext cx="7106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V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43"/>
            <p:cNvSpPr/>
            <p:nvPr/>
          </p:nvSpPr>
          <p:spPr>
            <a:xfrm>
              <a:off x="6792480" y="5037120"/>
              <a:ext cx="611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ff0000"/>
                  </a:solidFill>
                  <a:latin typeface="Arial"/>
                </a:rPr>
                <a:t>Digi-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Oval 44"/>
            <p:cNvSpPr/>
            <p:nvPr/>
          </p:nvSpPr>
          <p:spPr>
            <a:xfrm>
              <a:off x="6025320" y="5626440"/>
              <a:ext cx="816840" cy="818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45"/>
            <p:cNvSpPr/>
            <p:nvPr/>
          </p:nvSpPr>
          <p:spPr>
            <a:xfrm>
              <a:off x="6092640" y="5759280"/>
              <a:ext cx="6793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LV-B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46"/>
            <p:cNvSpPr/>
            <p:nvPr/>
          </p:nvSpPr>
          <p:spPr>
            <a:xfrm>
              <a:off x="4466520" y="1108440"/>
              <a:ext cx="0" cy="177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Oval 47"/>
            <p:cNvSpPr/>
            <p:nvPr/>
          </p:nvSpPr>
          <p:spPr>
            <a:xfrm>
              <a:off x="5902920" y="3530520"/>
              <a:ext cx="817560" cy="81792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Text Box 48"/>
            <p:cNvSpPr/>
            <p:nvPr/>
          </p:nvSpPr>
          <p:spPr>
            <a:xfrm>
              <a:off x="5837400" y="3666960"/>
              <a:ext cx="9504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Appl B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Oval 49"/>
            <p:cNvSpPr/>
            <p:nvPr/>
          </p:nvSpPr>
          <p:spPr>
            <a:xfrm>
              <a:off x="7184520" y="4146120"/>
              <a:ext cx="816840" cy="8179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 Box 50"/>
            <p:cNvSpPr/>
            <p:nvPr/>
          </p:nvSpPr>
          <p:spPr>
            <a:xfrm>
              <a:off x="7253640" y="4419360"/>
              <a:ext cx="7822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B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51"/>
            <p:cNvSpPr/>
            <p:nvPr/>
          </p:nvSpPr>
          <p:spPr>
            <a:xfrm flipH="1">
              <a:off x="4623480" y="1114200"/>
              <a:ext cx="772560" cy="180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Oval 52"/>
            <p:cNvSpPr/>
            <p:nvPr/>
          </p:nvSpPr>
          <p:spPr>
            <a:xfrm>
              <a:off x="4655880" y="1444680"/>
              <a:ext cx="816840" cy="818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Text Box 53"/>
            <p:cNvSpPr/>
            <p:nvPr/>
          </p:nvSpPr>
          <p:spPr>
            <a:xfrm>
              <a:off x="4730760" y="1590480"/>
              <a:ext cx="66672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ff0000"/>
                  </a:solidFill>
                  <a:latin typeface="Arial"/>
                </a:rPr>
                <a:t>Appl-</a:t>
              </a: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B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Oval 54"/>
            <p:cNvSpPr/>
            <p:nvPr/>
          </p:nvSpPr>
          <p:spPr>
            <a:xfrm>
              <a:off x="2226240" y="5670000"/>
              <a:ext cx="816840" cy="8182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Text Box 55"/>
            <p:cNvSpPr/>
            <p:nvPr/>
          </p:nvSpPr>
          <p:spPr>
            <a:xfrm>
              <a:off x="2144520" y="5970240"/>
              <a:ext cx="8190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BLA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56"/>
            <p:cNvSpPr/>
            <p:nvPr/>
          </p:nvSpPr>
          <p:spPr>
            <a:xfrm flipH="1" flipV="1">
              <a:off x="5010480" y="3901320"/>
              <a:ext cx="1770840" cy="115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Oval 57"/>
            <p:cNvSpPr/>
            <p:nvPr/>
          </p:nvSpPr>
          <p:spPr>
            <a:xfrm>
              <a:off x="3308400" y="1515240"/>
              <a:ext cx="817560" cy="81792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Text Box 58"/>
            <p:cNvSpPr/>
            <p:nvPr/>
          </p:nvSpPr>
          <p:spPr>
            <a:xfrm>
              <a:off x="3442680" y="1682640"/>
              <a:ext cx="4629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ff0000"/>
                  </a:solidFill>
                  <a:latin typeface="Arial"/>
                </a:rPr>
                <a:t>Appl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ff0000"/>
                  </a:solidFill>
                  <a:latin typeface="Arial"/>
                </a:rPr>
                <a:t>NH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Text Box 59"/>
            <p:cNvSpPr/>
            <p:nvPr/>
          </p:nvSpPr>
          <p:spPr>
            <a:xfrm>
              <a:off x="6991560" y="2320920"/>
              <a:ext cx="817560" cy="2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ff0000"/>
                  </a:solidFill>
                  <a:latin typeface="Arial"/>
                </a:rPr>
                <a:t>LV-WKP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Oval 60"/>
            <p:cNvSpPr/>
            <p:nvPr/>
          </p:nvSpPr>
          <p:spPr>
            <a:xfrm>
              <a:off x="851040" y="3641400"/>
              <a:ext cx="1020960" cy="109008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Text Box 61"/>
            <p:cNvSpPr/>
            <p:nvPr/>
          </p:nvSpPr>
          <p:spPr>
            <a:xfrm>
              <a:off x="851040" y="4040280"/>
              <a:ext cx="10454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0000"/>
                  </a:solidFill>
                  <a:latin typeface="Arial"/>
                </a:rPr>
                <a:t>DK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62"/>
            <p:cNvSpPr/>
            <p:nvPr/>
          </p:nvSpPr>
          <p:spPr>
            <a:xfrm flipH="1" flipV="1">
              <a:off x="4874760" y="4105440"/>
              <a:ext cx="1294200" cy="163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Oval 63"/>
            <p:cNvSpPr/>
            <p:nvPr/>
          </p:nvSpPr>
          <p:spPr>
            <a:xfrm>
              <a:off x="4700880" y="4862160"/>
              <a:ext cx="816480" cy="818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64"/>
            <p:cNvSpPr/>
            <p:nvPr/>
          </p:nvSpPr>
          <p:spPr>
            <a:xfrm>
              <a:off x="4632480" y="4998960"/>
              <a:ext cx="9558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Omg-Lo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65"/>
            <p:cNvSpPr/>
            <p:nvPr/>
          </p:nvSpPr>
          <p:spPr>
            <a:xfrm flipV="1">
              <a:off x="1868760" y="4546440"/>
              <a:ext cx="31068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66"/>
            <p:cNvSpPr/>
            <p:nvPr/>
          </p:nvSpPr>
          <p:spPr>
            <a:xfrm flipV="1">
              <a:off x="2747520" y="5440320"/>
              <a:ext cx="205560" cy="23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67"/>
            <p:cNvSpPr/>
            <p:nvPr/>
          </p:nvSpPr>
          <p:spPr>
            <a:xfrm flipV="1">
              <a:off x="3325320" y="5755680"/>
              <a:ext cx="87120" cy="22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68"/>
            <p:cNvSpPr/>
            <p:nvPr/>
          </p:nvSpPr>
          <p:spPr>
            <a:xfrm flipV="1">
              <a:off x="1858320" y="3901320"/>
              <a:ext cx="150372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1094040" y="2094840"/>
              <a:ext cx="816840" cy="818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 Box 70"/>
            <p:cNvSpPr/>
            <p:nvPr/>
          </p:nvSpPr>
          <p:spPr>
            <a:xfrm>
              <a:off x="1077840" y="2320920"/>
              <a:ext cx="6289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GBA-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 Box 71"/>
            <p:cNvSpPr/>
            <p:nvPr/>
          </p:nvSpPr>
          <p:spPr>
            <a:xfrm>
              <a:off x="1619640" y="1564920"/>
              <a:ext cx="4003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R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72"/>
            <p:cNvSpPr/>
            <p:nvPr/>
          </p:nvSpPr>
          <p:spPr>
            <a:xfrm>
              <a:off x="2241360" y="1946160"/>
              <a:ext cx="24768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73"/>
            <p:cNvSpPr/>
            <p:nvPr/>
          </p:nvSpPr>
          <p:spPr>
            <a:xfrm flipH="1" flipV="1">
              <a:off x="2241360" y="2408760"/>
              <a:ext cx="1532880" cy="89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Oval 74"/>
            <p:cNvSpPr/>
            <p:nvPr/>
          </p:nvSpPr>
          <p:spPr>
            <a:xfrm>
              <a:off x="2355480" y="2333520"/>
              <a:ext cx="816480" cy="8182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75"/>
            <p:cNvSpPr/>
            <p:nvPr/>
          </p:nvSpPr>
          <p:spPr>
            <a:xfrm>
              <a:off x="2420640" y="2464920"/>
              <a:ext cx="69372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B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NL" sz="1000" spc="-1" strike="noStrike">
                  <a:solidFill>
                    <a:srgbClr val="ff0000"/>
                  </a:solidFill>
                  <a:latin typeface="Times New Roman"/>
                </a:rPr>
                <a:t>BZS-K</a:t>
              </a:r>
              <a:r>
                <a:rPr b="0" lang="nl-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76"/>
            <p:cNvSpPr/>
            <p:nvPr/>
          </p:nvSpPr>
          <p:spPr>
            <a:xfrm>
              <a:off x="1987560" y="411840"/>
              <a:ext cx="1020960" cy="108972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77"/>
            <p:cNvSpPr/>
            <p:nvPr/>
          </p:nvSpPr>
          <p:spPr>
            <a:xfrm>
              <a:off x="1989000" y="796680"/>
              <a:ext cx="10454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0000"/>
                  </a:solidFill>
                  <a:latin typeface="Arial"/>
                </a:rPr>
                <a:t>GM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Oval 78"/>
            <p:cNvSpPr/>
            <p:nvPr/>
          </p:nvSpPr>
          <p:spPr>
            <a:xfrm>
              <a:off x="4040280" y="1291680"/>
              <a:ext cx="816840" cy="8179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79"/>
            <p:cNvSpPr/>
            <p:nvPr/>
          </p:nvSpPr>
          <p:spPr>
            <a:xfrm>
              <a:off x="4110120" y="1564920"/>
              <a:ext cx="7804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BG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Oval 80"/>
            <p:cNvSpPr/>
            <p:nvPr/>
          </p:nvSpPr>
          <p:spPr>
            <a:xfrm>
              <a:off x="826920" y="2982240"/>
              <a:ext cx="1020960" cy="109008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81"/>
            <p:cNvSpPr/>
            <p:nvPr/>
          </p:nvSpPr>
          <p:spPr>
            <a:xfrm>
              <a:off x="938520" y="3290760"/>
              <a:ext cx="659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0000"/>
                  </a:solidFill>
                  <a:latin typeface="Arial"/>
                </a:rPr>
                <a:t>G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82"/>
            <p:cNvSpPr/>
            <p:nvPr/>
          </p:nvSpPr>
          <p:spPr>
            <a:xfrm>
              <a:off x="2777400" y="1431360"/>
              <a:ext cx="965520" cy="128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Oval 83"/>
            <p:cNvSpPr/>
            <p:nvPr/>
          </p:nvSpPr>
          <p:spPr>
            <a:xfrm>
              <a:off x="5799960" y="4191120"/>
              <a:ext cx="749160" cy="74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84"/>
            <p:cNvSpPr/>
            <p:nvPr/>
          </p:nvSpPr>
          <p:spPr>
            <a:xfrm>
              <a:off x="5869080" y="4327560"/>
              <a:ext cx="6364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ff0000"/>
                  </a:solidFill>
                  <a:latin typeface="Arial"/>
                </a:rPr>
                <a:t>Digi-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85"/>
            <p:cNvSpPr/>
            <p:nvPr/>
          </p:nvSpPr>
          <p:spPr>
            <a:xfrm flipH="1">
              <a:off x="5074920" y="2709000"/>
              <a:ext cx="1951200" cy="67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Oval 86"/>
            <p:cNvSpPr/>
            <p:nvPr/>
          </p:nvSpPr>
          <p:spPr>
            <a:xfrm>
              <a:off x="5214960" y="4559040"/>
              <a:ext cx="817560" cy="8179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87"/>
            <p:cNvSpPr/>
            <p:nvPr/>
          </p:nvSpPr>
          <p:spPr>
            <a:xfrm>
              <a:off x="5317920" y="4832280"/>
              <a:ext cx="6109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B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Oval 88"/>
            <p:cNvSpPr/>
            <p:nvPr/>
          </p:nvSpPr>
          <p:spPr>
            <a:xfrm>
              <a:off x="5581440" y="2138400"/>
              <a:ext cx="817560" cy="81684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Text Box 89"/>
            <p:cNvSpPr/>
            <p:nvPr/>
          </p:nvSpPr>
          <p:spPr>
            <a:xfrm>
              <a:off x="5581440" y="2410920"/>
              <a:ext cx="8190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W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Oval 90"/>
            <p:cNvSpPr/>
            <p:nvPr/>
          </p:nvSpPr>
          <p:spPr>
            <a:xfrm>
              <a:off x="3299040" y="6122160"/>
              <a:ext cx="817560" cy="8182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Text Box 91"/>
            <p:cNvSpPr/>
            <p:nvPr/>
          </p:nvSpPr>
          <p:spPr>
            <a:xfrm>
              <a:off x="3370680" y="6396120"/>
              <a:ext cx="7804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K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92"/>
            <p:cNvSpPr/>
            <p:nvPr/>
          </p:nvSpPr>
          <p:spPr>
            <a:xfrm flipV="1">
              <a:off x="3789360" y="4252680"/>
              <a:ext cx="361800" cy="186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Oval 93"/>
            <p:cNvSpPr/>
            <p:nvPr/>
          </p:nvSpPr>
          <p:spPr>
            <a:xfrm>
              <a:off x="3454560" y="4871160"/>
              <a:ext cx="816840" cy="818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94"/>
            <p:cNvSpPr/>
            <p:nvPr/>
          </p:nvSpPr>
          <p:spPr>
            <a:xfrm>
              <a:off x="3386160" y="5006880"/>
              <a:ext cx="953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App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K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Oval 95"/>
            <p:cNvSpPr/>
            <p:nvPr/>
          </p:nvSpPr>
          <p:spPr>
            <a:xfrm>
              <a:off x="4022280" y="5021280"/>
              <a:ext cx="816840" cy="8182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Text Box 96"/>
            <p:cNvSpPr/>
            <p:nvPr/>
          </p:nvSpPr>
          <p:spPr>
            <a:xfrm>
              <a:off x="4008600" y="5173560"/>
              <a:ext cx="7776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BR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WO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Oval 97"/>
            <p:cNvSpPr/>
            <p:nvPr/>
          </p:nvSpPr>
          <p:spPr>
            <a:xfrm>
              <a:off x="2762280" y="5943240"/>
              <a:ext cx="815760" cy="8182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Text Box 98"/>
            <p:cNvSpPr/>
            <p:nvPr/>
          </p:nvSpPr>
          <p:spPr>
            <a:xfrm>
              <a:off x="2792520" y="6197040"/>
              <a:ext cx="6919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B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Oval 99"/>
            <p:cNvSpPr/>
            <p:nvPr/>
          </p:nvSpPr>
          <p:spPr>
            <a:xfrm>
              <a:off x="4047480" y="6122160"/>
              <a:ext cx="816120" cy="818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 Box 100"/>
            <p:cNvSpPr/>
            <p:nvPr/>
          </p:nvSpPr>
          <p:spPr>
            <a:xfrm>
              <a:off x="4121280" y="6243480"/>
              <a:ext cx="6807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LV-WO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101"/>
            <p:cNvSpPr/>
            <p:nvPr/>
          </p:nvSpPr>
          <p:spPr>
            <a:xfrm flipH="1">
              <a:off x="6291000" y="1809360"/>
              <a:ext cx="16344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" name="Group 102"/>
            <p:cNvGrpSpPr/>
            <p:nvPr/>
          </p:nvGrpSpPr>
          <p:grpSpPr>
            <a:xfrm>
              <a:off x="5200200" y="1671480"/>
              <a:ext cx="817560" cy="818280"/>
              <a:chOff x="5200200" y="1671480"/>
              <a:chExt cx="817560" cy="818280"/>
            </a:xfrm>
          </p:grpSpPr>
          <p:sp>
            <p:nvSpPr>
              <p:cNvPr id="691" name="Oval 103"/>
              <p:cNvSpPr/>
              <p:nvPr/>
            </p:nvSpPr>
            <p:spPr>
              <a:xfrm>
                <a:off x="5200200" y="1671480"/>
                <a:ext cx="817560" cy="8182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Text Box 104"/>
              <p:cNvSpPr/>
              <p:nvPr/>
            </p:nvSpPr>
            <p:spPr>
              <a:xfrm>
                <a:off x="5275080" y="1816920"/>
                <a:ext cx="6670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000" spc="-1" strike="noStrike">
                    <a:solidFill>
                      <a:srgbClr val="ff0000"/>
                    </a:solidFill>
                    <a:latin typeface="Arial"/>
                  </a:rPr>
                  <a:t>Appl-</a:t>
                </a:r>
                <a:r>
                  <a:rPr b="1" lang="nl-NL" sz="1200" spc="-1" strike="noStrike">
                    <a:solidFill>
                      <a:srgbClr val="ff0000"/>
                    </a:solidFill>
                    <a:latin typeface="Arial"/>
                  </a:rPr>
                  <a:t>BR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Group 105"/>
            <p:cNvGrpSpPr/>
            <p:nvPr/>
          </p:nvGrpSpPr>
          <p:grpSpPr>
            <a:xfrm>
              <a:off x="5797080" y="2648880"/>
              <a:ext cx="817920" cy="816480"/>
              <a:chOff x="5797080" y="2648880"/>
              <a:chExt cx="817920" cy="816480"/>
            </a:xfrm>
          </p:grpSpPr>
          <p:sp>
            <p:nvSpPr>
              <p:cNvPr id="694" name="Oval 106"/>
              <p:cNvSpPr/>
              <p:nvPr/>
            </p:nvSpPr>
            <p:spPr>
              <a:xfrm>
                <a:off x="5797080" y="2648880"/>
                <a:ext cx="816120" cy="8164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Text Box 107"/>
              <p:cNvSpPr/>
              <p:nvPr/>
            </p:nvSpPr>
            <p:spPr>
              <a:xfrm>
                <a:off x="5797080" y="2920320"/>
                <a:ext cx="817920" cy="31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ff0000"/>
                    </a:solidFill>
                    <a:latin typeface="Arial"/>
                  </a:rPr>
                  <a:t>WKP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Oval 108"/>
            <p:cNvSpPr/>
            <p:nvPr/>
          </p:nvSpPr>
          <p:spPr>
            <a:xfrm>
              <a:off x="1350720" y="4916160"/>
              <a:ext cx="788400" cy="783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Text Box 109"/>
            <p:cNvSpPr/>
            <p:nvPr/>
          </p:nvSpPr>
          <p:spPr>
            <a:xfrm>
              <a:off x="1338120" y="5154480"/>
              <a:ext cx="7095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EK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110"/>
            <p:cNvSpPr/>
            <p:nvPr/>
          </p:nvSpPr>
          <p:spPr>
            <a:xfrm>
              <a:off x="1721880" y="5257080"/>
              <a:ext cx="788040" cy="783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Text Box 111"/>
            <p:cNvSpPr/>
            <p:nvPr/>
          </p:nvSpPr>
          <p:spPr>
            <a:xfrm>
              <a:off x="1764000" y="5510160"/>
              <a:ext cx="7106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E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112"/>
            <p:cNvSpPr/>
            <p:nvPr/>
          </p:nvSpPr>
          <p:spPr>
            <a:xfrm flipV="1">
              <a:off x="2059560" y="4834800"/>
              <a:ext cx="309240" cy="19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113"/>
            <p:cNvSpPr/>
            <p:nvPr/>
          </p:nvSpPr>
          <p:spPr>
            <a:xfrm flipV="1">
              <a:off x="2361600" y="5106600"/>
              <a:ext cx="214560" cy="20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Text Box 114"/>
          <p:cNvSpPr/>
          <p:nvPr/>
        </p:nvSpPr>
        <p:spPr>
          <a:xfrm>
            <a:off x="6476760" y="646128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Arial Unicode MS"/>
              </a:rPr>
              <a:t>Onze Oplo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19CE-3338-4779-9B37-47AA21160B5F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8B04-F923-4FD7-878F-A378F82AD6C9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70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336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6"/>
          <p:cNvSpPr/>
          <p:nvPr/>
        </p:nvSpPr>
        <p:spPr>
          <a:xfrm rot="16200000">
            <a:off x="-997920" y="3740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3300"/>
                </a:solidFill>
                <a:latin typeface="Arial Unicode MS"/>
              </a:rPr>
              <a:t>Gegevens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E4D3-1588-4040-9245-3FB540CBEEBE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39EF-6B49-4DEC-B39C-1EB31B60C4D1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verschillende objectdefinities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BAG: pand en verblijfsobject (bovenaanzicht)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BRT: bebouwing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GBKN: hoofdgebouw en bijgebouw op maaiveld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Bestemmingsplan: bebouwing en gebouw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WOZ: WOZ-deelobject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ijdelijke aanduiding voor datum 1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BAF5-453A-4743-A6D9-7BD70678AE54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ijdelijke aanduiding voor voettekst 2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ijdelijke aanduiding voor dianummer 3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FFE9-456F-4A6A-815D-31EB5CB92D5C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2"/>
          <p:cNvSpPr/>
          <p:nvPr/>
        </p:nvSpPr>
        <p:spPr>
          <a:xfrm>
            <a:off x="1284480" y="1295280"/>
            <a:ext cx="68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lgemeen vraagscenario: klant wil activiteit in gemeente ontplooie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3"/>
          <p:cNvSpPr/>
          <p:nvPr/>
        </p:nvSpPr>
        <p:spPr>
          <a:xfrm>
            <a:off x="3429000" y="1981080"/>
            <a:ext cx="914400" cy="609840"/>
          </a:xfrm>
          <a:prstGeom prst="flowChartProcess">
            <a:avLst/>
          </a:prstGeom>
          <a:solidFill>
            <a:srgbClr val="f4f84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ie bent 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0" name="AutoShape 4"/>
          <p:cNvCxnSpPr>
            <a:stCxn id="719" idx="3"/>
            <a:endCxn id="721" idx="1"/>
          </p:cNvCxnSpPr>
          <p:nvPr/>
        </p:nvCxnSpPr>
        <p:spPr>
          <a:xfrm flipV="1">
            <a:off x="4343040" y="1828440"/>
            <a:ext cx="22932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1" name="AutoShape 5"/>
          <p:cNvSpPr/>
          <p:nvPr/>
        </p:nvSpPr>
        <p:spPr>
          <a:xfrm>
            <a:off x="4572000" y="1676520"/>
            <a:ext cx="914400" cy="304560"/>
          </a:xfrm>
          <a:prstGeom prst="flowChartTerminator">
            <a:avLst/>
          </a:prstGeom>
          <a:solidFill>
            <a:srgbClr val="f4f8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g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6"/>
          <p:cNvSpPr/>
          <p:nvPr/>
        </p:nvSpPr>
        <p:spPr>
          <a:xfrm>
            <a:off x="5410080" y="2057400"/>
            <a:ext cx="914400" cy="609480"/>
          </a:xfrm>
          <a:prstGeom prst="flowChartDocument">
            <a:avLst/>
          </a:prstGeom>
          <a:solidFill>
            <a:srgbClr val="f4f8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7"/>
          <p:cNvSpPr/>
          <p:nvPr/>
        </p:nvSpPr>
        <p:spPr>
          <a:xfrm>
            <a:off x="5638680" y="2438280"/>
            <a:ext cx="914400" cy="609840"/>
          </a:xfrm>
          <a:prstGeom prst="flowChartDocument">
            <a:avLst/>
          </a:prstGeom>
          <a:solidFill>
            <a:srgbClr val="f4f8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8"/>
          <p:cNvSpPr/>
          <p:nvPr/>
        </p:nvSpPr>
        <p:spPr>
          <a:xfrm>
            <a:off x="3429000" y="3124080"/>
            <a:ext cx="914400" cy="609840"/>
          </a:xfrm>
          <a:prstGeom prst="flowChartDecision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aa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5" name="AutoShape 9"/>
          <p:cNvCxnSpPr>
            <a:stCxn id="719" idx="2"/>
            <a:endCxn id="724" idx="0"/>
          </p:cNvCxnSpPr>
          <p:nvPr/>
        </p:nvCxnSpPr>
        <p:spPr>
          <a:xfrm>
            <a:off x="3885840" y="25905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26" name="AutoShape 10"/>
          <p:cNvSpPr/>
          <p:nvPr/>
        </p:nvSpPr>
        <p:spPr>
          <a:xfrm>
            <a:off x="2286000" y="3124080"/>
            <a:ext cx="914400" cy="609840"/>
          </a:xfrm>
          <a:prstGeom prst="flowChartProcess">
            <a:avLst/>
          </a:prstGeom>
          <a:solidFill>
            <a:srgbClr val="f4f84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11"/>
          <p:cNvSpPr/>
          <p:nvPr/>
        </p:nvSpPr>
        <p:spPr>
          <a:xfrm>
            <a:off x="4572000" y="3124080"/>
            <a:ext cx="914400" cy="609840"/>
          </a:xfrm>
          <a:prstGeom prst="flowChartProcess">
            <a:avLst/>
          </a:prstGeom>
          <a:solidFill>
            <a:srgbClr val="f4f84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d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8" name="AutoShape 12"/>
          <p:cNvCxnSpPr>
            <a:stCxn id="726" idx="3"/>
            <a:endCxn id="724" idx="1"/>
          </p:cNvCxnSpPr>
          <p:nvPr/>
        </p:nvCxnSpPr>
        <p:spPr>
          <a:xfrm>
            <a:off x="3200040" y="34286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9" name="AutoShape 13"/>
          <p:cNvCxnSpPr>
            <a:stCxn id="724" idx="3"/>
            <a:endCxn id="727" idx="1"/>
          </p:cNvCxnSpPr>
          <p:nvPr/>
        </p:nvCxnSpPr>
        <p:spPr>
          <a:xfrm>
            <a:off x="4343040" y="34286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0" name="AutoShape 14"/>
          <p:cNvSpPr/>
          <p:nvPr/>
        </p:nvSpPr>
        <p:spPr>
          <a:xfrm>
            <a:off x="4572000" y="3962520"/>
            <a:ext cx="914400" cy="609480"/>
          </a:xfrm>
          <a:prstGeom prst="flowChartProcess">
            <a:avLst/>
          </a:prstGeom>
          <a:solidFill>
            <a:srgbClr val="f4f84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15"/>
          <p:cNvSpPr/>
          <p:nvPr/>
        </p:nvSpPr>
        <p:spPr>
          <a:xfrm>
            <a:off x="2286000" y="3962520"/>
            <a:ext cx="914400" cy="609480"/>
          </a:xfrm>
          <a:prstGeom prst="flowChartProcess">
            <a:avLst/>
          </a:prstGeom>
          <a:solidFill>
            <a:srgbClr val="f4f84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eomet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6"/>
          <p:cNvSpPr/>
          <p:nvPr/>
        </p:nvSpPr>
        <p:spPr>
          <a:xfrm>
            <a:off x="3127320" y="3962520"/>
            <a:ext cx="910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(middel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VBR-View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AutoShape 17"/>
          <p:cNvCxnSpPr>
            <a:stCxn id="726" idx="2"/>
            <a:endCxn id="731" idx="0"/>
          </p:cNvCxnSpPr>
          <p:nvPr/>
        </p:nvCxnSpPr>
        <p:spPr>
          <a:xfrm>
            <a:off x="2742840" y="3733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4" name="AutoShape 18"/>
          <p:cNvCxnSpPr>
            <a:stCxn id="727" idx="2"/>
            <a:endCxn id="730" idx="0"/>
          </p:cNvCxnSpPr>
          <p:nvPr/>
        </p:nvCxnSpPr>
        <p:spPr>
          <a:xfrm>
            <a:off x="5028840" y="3733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5" name="Text Box 19"/>
          <p:cNvSpPr/>
          <p:nvPr/>
        </p:nvSpPr>
        <p:spPr>
          <a:xfrm>
            <a:off x="6249960" y="205740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(antwoor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utoShape 20"/>
          <p:cNvSpPr/>
          <p:nvPr/>
        </p:nvSpPr>
        <p:spPr>
          <a:xfrm>
            <a:off x="2286000" y="4724280"/>
            <a:ext cx="914400" cy="304920"/>
          </a:xfrm>
          <a:prstGeom prst="flowChartProcess">
            <a:avLst/>
          </a:prstGeom>
          <a:solidFill>
            <a:srgbClr val="f4f84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a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21"/>
          <p:cNvSpPr/>
          <p:nvPr/>
        </p:nvSpPr>
        <p:spPr>
          <a:xfrm>
            <a:off x="4572000" y="4724280"/>
            <a:ext cx="914400" cy="304920"/>
          </a:xfrm>
          <a:prstGeom prst="flowChartProcess">
            <a:avLst/>
          </a:prstGeom>
          <a:solidFill>
            <a:srgbClr val="f4f84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a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22"/>
          <p:cNvSpPr/>
          <p:nvPr/>
        </p:nvSpPr>
        <p:spPr>
          <a:xfrm>
            <a:off x="5412240" y="4724280"/>
            <a:ext cx="7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(optionee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3126240" y="4724280"/>
            <a:ext cx="7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(optionee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AutoShape 24"/>
          <p:cNvCxnSpPr>
            <a:stCxn id="731" idx="2"/>
            <a:endCxn id="736" idx="0"/>
          </p:cNvCxnSpPr>
          <p:nvPr/>
        </p:nvCxnSpPr>
        <p:spPr>
          <a:xfrm>
            <a:off x="2742840" y="4571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AutoShape 25"/>
          <p:cNvCxnSpPr>
            <a:stCxn id="730" idx="2"/>
            <a:endCxn id="737" idx="0"/>
          </p:cNvCxnSpPr>
          <p:nvPr/>
        </p:nvCxnSpPr>
        <p:spPr>
          <a:xfrm>
            <a:off x="5028840" y="4571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2" name="AutoShape 26"/>
          <p:cNvSpPr/>
          <p:nvPr/>
        </p:nvSpPr>
        <p:spPr>
          <a:xfrm>
            <a:off x="1523880" y="1676520"/>
            <a:ext cx="304920" cy="1295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65"/>
                </a:lnTo>
                <a:cubicBezTo>
                  <a:pt x="10800" y="10165"/>
                  <a:pt x="5400" y="11065"/>
                  <a:pt x="0" y="11065"/>
                </a:cubicBezTo>
                <a:cubicBezTo>
                  <a:pt x="5400" y="11065"/>
                  <a:pt x="10800" y="11965"/>
                  <a:pt x="10800" y="1286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7"/>
          <p:cNvSpPr/>
          <p:nvPr/>
        </p:nvSpPr>
        <p:spPr>
          <a:xfrm>
            <a:off x="225360" y="1905120"/>
            <a:ext cx="133884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 bent die e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n dat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uthenti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astgest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AutoShape 28"/>
          <p:cNvSpPr/>
          <p:nvPr/>
        </p:nvSpPr>
        <p:spPr>
          <a:xfrm>
            <a:off x="1447920" y="3124080"/>
            <a:ext cx="380880" cy="2286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4640 h 2286000"/>
              <a:gd name="textAreaBottom" fmla="*/ 224136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5"/>
                  <a:pt x="10800" y="1350"/>
                </a:cubicBezTo>
                <a:lnTo>
                  <a:pt x="10800" y="9304"/>
                </a:lnTo>
                <a:cubicBezTo>
                  <a:pt x="10800" y="9979"/>
                  <a:pt x="5400" y="10654"/>
                  <a:pt x="0" y="10654"/>
                </a:cubicBezTo>
                <a:cubicBezTo>
                  <a:pt x="5400" y="10654"/>
                  <a:pt x="10800" y="11329"/>
                  <a:pt x="10800" y="12004"/>
                </a:cubicBezTo>
                <a:lnTo>
                  <a:pt x="10800" y="20250"/>
                </a:lnTo>
                <a:cubicBezTo>
                  <a:pt x="10800" y="2092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29"/>
          <p:cNvSpPr/>
          <p:nvPr/>
        </p:nvSpPr>
        <p:spPr>
          <a:xfrm>
            <a:off x="3429000" y="5181480"/>
            <a:ext cx="914400" cy="381240"/>
          </a:xfrm>
          <a:prstGeom prst="flowChartProcess">
            <a:avLst/>
          </a:prstGeom>
          <a:solidFill>
            <a:srgbClr val="f4f8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AD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AD-vl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6" name="AutoShape 30"/>
          <p:cNvCxnSpPr>
            <a:stCxn id="736" idx="2"/>
            <a:endCxn id="745" idx="1"/>
          </p:cNvCxnSpPr>
          <p:nvPr/>
        </p:nvCxnSpPr>
        <p:spPr>
          <a:xfrm flipH="1" rot="16200000">
            <a:off x="2913480" y="4857480"/>
            <a:ext cx="34380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7" name="AutoShape 31"/>
          <p:cNvCxnSpPr>
            <a:stCxn id="737" idx="2"/>
            <a:endCxn id="745" idx="3"/>
          </p:cNvCxnSpPr>
          <p:nvPr/>
        </p:nvCxnSpPr>
        <p:spPr>
          <a:xfrm rot="5400000">
            <a:off x="4514040" y="4857480"/>
            <a:ext cx="34380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8" name="AutoShape 32"/>
          <p:cNvSpPr/>
          <p:nvPr/>
        </p:nvSpPr>
        <p:spPr>
          <a:xfrm>
            <a:off x="3429000" y="5715000"/>
            <a:ext cx="914400" cy="609480"/>
          </a:xfrm>
          <a:prstGeom prst="flowChartDecision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ag d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AutoShape 33"/>
          <p:cNvCxnSpPr>
            <a:stCxn id="745" idx="2"/>
            <a:endCxn id="748" idx="0"/>
          </p:cNvCxnSpPr>
          <p:nvPr/>
        </p:nvCxnSpPr>
        <p:spPr>
          <a:xfrm>
            <a:off x="3885840" y="5562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0" name="AutoShape 34"/>
          <p:cNvSpPr/>
          <p:nvPr/>
        </p:nvSpPr>
        <p:spPr>
          <a:xfrm>
            <a:off x="4572000" y="5562720"/>
            <a:ext cx="914400" cy="304560"/>
          </a:xfrm>
          <a:prstGeom prst="flowChartProcess">
            <a:avLst/>
          </a:prstGeom>
          <a:solidFill>
            <a:srgbClr val="f4f84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st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AutoShape 35"/>
          <p:cNvSpPr/>
          <p:nvPr/>
        </p:nvSpPr>
        <p:spPr>
          <a:xfrm>
            <a:off x="5638680" y="5562720"/>
            <a:ext cx="914400" cy="304560"/>
          </a:xfrm>
          <a:prstGeom prst="flowChartProcess">
            <a:avLst/>
          </a:prstGeom>
          <a:solidFill>
            <a:srgbClr val="f4f84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K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AutoShape 36"/>
          <p:cNvSpPr/>
          <p:nvPr/>
        </p:nvSpPr>
        <p:spPr>
          <a:xfrm>
            <a:off x="6705720" y="5562720"/>
            <a:ext cx="1028520" cy="304560"/>
          </a:xfrm>
          <a:prstGeom prst="flowChartProcess">
            <a:avLst/>
          </a:prstGeom>
          <a:solidFill>
            <a:srgbClr val="f4f84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gunni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3" name="AutoShape 37"/>
          <p:cNvCxnSpPr>
            <a:stCxn id="748" idx="3"/>
            <a:endCxn id="750" idx="1"/>
          </p:cNvCxnSpPr>
          <p:nvPr/>
        </p:nvCxnSpPr>
        <p:spPr>
          <a:xfrm flipV="1">
            <a:off x="4343040" y="5714280"/>
            <a:ext cx="22932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4" name="AutoShape 38"/>
          <p:cNvCxnSpPr>
            <a:stCxn id="750" idx="3"/>
            <a:endCxn id="751" idx="1"/>
          </p:cNvCxnSpPr>
          <p:nvPr/>
        </p:nvCxnSpPr>
        <p:spPr>
          <a:xfrm>
            <a:off x="5486040" y="571464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5" name="AutoShape 39"/>
          <p:cNvCxnSpPr>
            <a:stCxn id="751" idx="3"/>
            <a:endCxn id="752" idx="1"/>
          </p:cNvCxnSpPr>
          <p:nvPr/>
        </p:nvCxnSpPr>
        <p:spPr>
          <a:xfrm>
            <a:off x="6553080" y="571464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6" name="AutoShape 40"/>
          <p:cNvSpPr/>
          <p:nvPr/>
        </p:nvSpPr>
        <p:spPr>
          <a:xfrm>
            <a:off x="4876920" y="6172200"/>
            <a:ext cx="914400" cy="380880"/>
          </a:xfrm>
          <a:prstGeom prst="flowChartProcess">
            <a:avLst/>
          </a:prstGeom>
          <a:solidFill>
            <a:srgbClr val="f4f8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d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 k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AutoShape 41"/>
          <p:cNvCxnSpPr>
            <a:stCxn id="752" idx="3"/>
            <a:endCxn id="756" idx="0"/>
          </p:cNvCxnSpPr>
          <p:nvPr/>
        </p:nvCxnSpPr>
        <p:spPr>
          <a:xfrm flipH="1">
            <a:off x="5333400" y="5715000"/>
            <a:ext cx="2400840" cy="457920"/>
          </a:xfrm>
          <a:prstGeom prst="bentConnector4">
            <a:avLst>
              <a:gd name="adj1" fmla="val -9523"/>
              <a:gd name="adj2" fmla="val 6664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8" name="Text Box 42"/>
          <p:cNvSpPr/>
          <p:nvPr/>
        </p:nvSpPr>
        <p:spPr>
          <a:xfrm>
            <a:off x="304200" y="3809880"/>
            <a:ext cx="105552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locatie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uthenti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astgest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43"/>
          <p:cNvSpPr/>
          <p:nvPr/>
        </p:nvSpPr>
        <p:spPr>
          <a:xfrm>
            <a:off x="1447920" y="556272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80"/>
                </a:lnTo>
                <a:cubicBezTo>
                  <a:pt x="10800" y="10080"/>
                  <a:pt x="5400" y="10980"/>
                  <a:pt x="0" y="10980"/>
                </a:cubicBezTo>
                <a:cubicBezTo>
                  <a:pt x="5400" y="10980"/>
                  <a:pt x="10800" y="11880"/>
                  <a:pt x="10800" y="1278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4"/>
          <p:cNvSpPr/>
          <p:nvPr/>
        </p:nvSpPr>
        <p:spPr>
          <a:xfrm>
            <a:off x="5326200" y="6108840"/>
            <a:ext cx="401652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(U mag ni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U mag wel en moet die en die vergunning aanvr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U mag wel en u moet eerst die en die procedures volge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5"/>
          <p:cNvSpPr/>
          <p:nvPr/>
        </p:nvSpPr>
        <p:spPr>
          <a:xfrm>
            <a:off x="226080" y="5715000"/>
            <a:ext cx="142128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klant word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lgens wettelij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plichte nor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hand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61"/>
          <p:cNvSpPr/>
          <p:nvPr/>
        </p:nvSpPr>
        <p:spPr>
          <a:xfrm>
            <a:off x="633240" y="47577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62"/>
          <p:cNvSpPr/>
          <p:nvPr/>
        </p:nvSpPr>
        <p:spPr>
          <a:xfrm>
            <a:off x="998640" y="270000"/>
            <a:ext cx="59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Arial"/>
              </a:rPr>
              <a:t>Wie-wat-waar-mag-dat-vraa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CDCE-517F-4017-8F31-85BEC6CEBDE3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9E40-890A-4439-90EB-095B080258C8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9999"/>
                </a:solidFill>
                <a:latin typeface="Arial"/>
              </a:rPr>
              <a:t>Belangrijkste probleem dienstverlening</a:t>
            </a:r>
            <a:endParaRPr b="1" lang="en-US" sz="28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Ouderwetse GBA-applicatie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niet open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intake dienstverleningsprocessen leidt tot overtypen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niet geschikt voor functioneren stelsel van BR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vertraging mGBA is grootste bottelnek verbetering dienstverlening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73A1-B617-4A02-A7FE-9B5BF578031A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71BF-8E5E-42FC-8AE5-014A6BC7E7CA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Memorie van toelichting WRO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raadpleegbaarheid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toegankelijkheid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leesbaarheid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handhaafbaarheid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vergelijkbaarheid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rechtszekerheid/rechtsgelijkheid (lees betrouwbaarheid)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1DD7-AA18-4F77-924F-6AD13D4EC85D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F91B-2635-43A2-A588-7333E7A84184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85720" y="12092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9999"/>
                </a:solidFill>
                <a:latin typeface="Arial"/>
              </a:rPr>
              <a:t>2 vastgestelde bestemmingsplannen op 1 plek</a:t>
            </a:r>
            <a:r>
              <a:rPr b="1" lang="nl-NL" sz="2800" spc="-1" strike="noStrike">
                <a:solidFill>
                  <a:srgbClr val="3399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779" name="Picture 4" descr=""/>
          <p:cNvPicPr/>
          <p:nvPr/>
        </p:nvPicPr>
        <p:blipFill>
          <a:blip r:embed="rId1"/>
          <a:stretch/>
        </p:blipFill>
        <p:spPr>
          <a:xfrm>
            <a:off x="1330200" y="1849320"/>
            <a:ext cx="6678720" cy="500868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5"/>
          <p:cNvSpPr/>
          <p:nvPr/>
        </p:nvSpPr>
        <p:spPr>
          <a:xfrm>
            <a:off x="6343560" y="3244680"/>
            <a:ext cx="1660680" cy="143064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6"/>
          <p:cNvSpPr/>
          <p:nvPr/>
        </p:nvSpPr>
        <p:spPr>
          <a:xfrm>
            <a:off x="2871000" y="612144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3300"/>
                </a:solidFill>
                <a:latin typeface="Arial Unicode MS"/>
              </a:rPr>
              <a:t>Niet eenduidig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7"/>
          <p:cNvSpPr/>
          <p:nvPr/>
        </p:nvSpPr>
        <p:spPr>
          <a:xfrm>
            <a:off x="2612880" y="2975040"/>
            <a:ext cx="841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258B-754C-4735-8605-C557202C2960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7621-E2BA-4CB6-AD00-5A56B624EB6F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596960" y="135360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Objectgericht,... of toch Laaggericht?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787" name="Picture 3" descr=""/>
          <p:cNvPicPr/>
          <p:nvPr/>
        </p:nvPicPr>
        <p:blipFill>
          <a:blip r:embed="rId1"/>
          <a:stretch/>
        </p:blipFill>
        <p:spPr>
          <a:xfrm>
            <a:off x="1600200" y="2206800"/>
            <a:ext cx="7010280" cy="4651200"/>
          </a:xfrm>
          <a:prstGeom prst="rect">
            <a:avLst/>
          </a:prstGeom>
          <a:ln w="0">
            <a:noFill/>
          </a:ln>
        </p:spPr>
      </p:pic>
      <p:grpSp>
        <p:nvGrpSpPr>
          <p:cNvPr id="788" name="Group 4"/>
          <p:cNvGrpSpPr/>
          <p:nvPr/>
        </p:nvGrpSpPr>
        <p:grpSpPr>
          <a:xfrm>
            <a:off x="7786800" y="185760"/>
            <a:ext cx="1144440" cy="1063440"/>
            <a:chOff x="7786800" y="185760"/>
            <a:chExt cx="1144440" cy="1063440"/>
          </a:xfrm>
        </p:grpSpPr>
        <p:sp>
          <p:nvSpPr>
            <p:cNvPr id="789" name="Freeform 5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solidFill>
              <a:srgbClr val="e6f0c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Freeform 6"/>
            <p:cNvSpPr/>
            <p:nvPr/>
          </p:nvSpPr>
          <p:spPr>
            <a:xfrm>
              <a:off x="7910280" y="238680"/>
              <a:ext cx="559440" cy="513720"/>
            </a:xfrm>
            <a:prstGeom prst="pi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Freeform 7"/>
            <p:cNvSpPr/>
            <p:nvPr/>
          </p:nvSpPr>
          <p:spPr>
            <a:xfrm>
              <a:off x="8007120" y="466920"/>
              <a:ext cx="612360" cy="6123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Freeform 8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Freeform 9"/>
            <p:cNvSpPr/>
            <p:nvPr/>
          </p:nvSpPr>
          <p:spPr>
            <a:xfrm>
              <a:off x="8043840" y="507960"/>
              <a:ext cx="385560" cy="38088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Freeform 10"/>
            <p:cNvSpPr/>
            <p:nvPr/>
          </p:nvSpPr>
          <p:spPr>
            <a:xfrm>
              <a:off x="7905600" y="186840"/>
              <a:ext cx="276120" cy="19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Freeform 11"/>
            <p:cNvSpPr/>
            <p:nvPr/>
          </p:nvSpPr>
          <p:spPr>
            <a:xfrm>
              <a:off x="7910280" y="547200"/>
              <a:ext cx="271440" cy="531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Freeform 12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solidFill>
              <a:srgbClr val="9b9b9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Freeform 13"/>
            <p:cNvSpPr/>
            <p:nvPr/>
          </p:nvSpPr>
          <p:spPr>
            <a:xfrm>
              <a:off x="8182080" y="770760"/>
              <a:ext cx="437400" cy="30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Freeform 14"/>
            <p:cNvSpPr/>
            <p:nvPr/>
          </p:nvSpPr>
          <p:spPr>
            <a:xfrm>
              <a:off x="8357040" y="238680"/>
              <a:ext cx="262440" cy="53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Freeform 15"/>
            <p:cNvSpPr/>
            <p:nvPr/>
          </p:nvSpPr>
          <p:spPr>
            <a:xfrm>
              <a:off x="8345880" y="466920"/>
              <a:ext cx="12420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Freeform 16"/>
            <p:cNvSpPr/>
            <p:nvPr/>
          </p:nvSpPr>
          <p:spPr>
            <a:xfrm>
              <a:off x="8007120" y="694800"/>
              <a:ext cx="88200" cy="51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WordArt 17"/>
            <p:cNvSpPr txBox="1"/>
            <p:nvPr/>
          </p:nvSpPr>
          <p:spPr>
            <a:xfrm rot="3538800">
              <a:off x="8184960" y="613080"/>
              <a:ext cx="129240" cy="152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2" name="WordArt 18"/>
            <p:cNvSpPr txBox="1"/>
            <p:nvPr/>
          </p:nvSpPr>
          <p:spPr>
            <a:xfrm rot="3462600">
              <a:off x="8062560" y="214920"/>
              <a:ext cx="106200" cy="153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3" name="Freeform 19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noFill/>
            <a:ln cap="rnd" w="572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82E1-BF30-4A34-BE20-1BB121B275C8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D0B0-D872-45D6-A52B-7F7F315BE068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599840" y="135360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Hoeveel lagen over elkaar?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809" name="Picture 4" descr=""/>
          <p:cNvPicPr/>
          <p:nvPr/>
        </p:nvPicPr>
        <p:blipFill>
          <a:blip r:embed="rId1"/>
          <a:stretch/>
        </p:blipFill>
        <p:spPr>
          <a:xfrm>
            <a:off x="1641600" y="2093760"/>
            <a:ext cx="6738840" cy="476424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5"/>
          <p:cNvSpPr/>
          <p:nvPr/>
        </p:nvSpPr>
        <p:spPr>
          <a:xfrm>
            <a:off x="1308960" y="6338880"/>
            <a:ext cx="53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3300"/>
                </a:solidFill>
                <a:latin typeface="Arial Unicode MS"/>
              </a:rPr>
              <a:t>consistente en leesbare rege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9678-AC87-4C1A-865C-09C88092E771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6F5B-ABC2-4754-B755-A23D8A186FC4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25240" y="1337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9999"/>
                </a:solidFill>
                <a:latin typeface="Arial"/>
              </a:rPr>
              <a:t>Zoeken op (adres)punt,</a:t>
            </a:r>
            <a:br>
              <a:rPr sz="2800"/>
            </a:br>
            <a:r>
              <a:rPr b="1" lang="nl-NL" sz="2800" spc="-1" strike="noStrike">
                <a:solidFill>
                  <a:srgbClr val="339999"/>
                </a:solidFill>
                <a:latin typeface="Arial"/>
              </a:rPr>
              <a:t>Adres buiten plan, pand binnen plan</a:t>
            </a:r>
            <a:endParaRPr b="1" lang="en-US" sz="28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816" name="Picture 4" descr=""/>
          <p:cNvPicPr/>
          <p:nvPr/>
        </p:nvPicPr>
        <p:blipFill>
          <a:blip r:embed="rId1"/>
          <a:stretch/>
        </p:blipFill>
        <p:spPr>
          <a:xfrm>
            <a:off x="1538280" y="2195640"/>
            <a:ext cx="6232680" cy="4662360"/>
          </a:xfrm>
          <a:prstGeom prst="rect">
            <a:avLst/>
          </a:prstGeom>
          <a:ln w="0">
            <a:noFill/>
          </a:ln>
        </p:spPr>
      </p:pic>
      <p:sp>
        <p:nvSpPr>
          <p:cNvPr id="817" name="Oval 5"/>
          <p:cNvSpPr/>
          <p:nvPr/>
        </p:nvSpPr>
        <p:spPr>
          <a:xfrm>
            <a:off x="5207040" y="4557600"/>
            <a:ext cx="689040" cy="6858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ijdelijke aanduiding voor datum 2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F6D8-4B6D-4FC5-B343-7E1831DBE3E6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ijdelijke aanduiding voor voettekst 3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ijdelijke aanduiding voor dianummer 4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80B2-D4F9-4E4E-A3CB-B6540294C55A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3" descr=""/>
          <p:cNvPicPr/>
          <p:nvPr/>
        </p:nvPicPr>
        <p:blipFill>
          <a:blip r:embed="rId1"/>
          <a:stretch/>
        </p:blipFill>
        <p:spPr>
          <a:xfrm>
            <a:off x="0" y="109224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4"/>
          <p:cNvSpPr/>
          <p:nvPr/>
        </p:nvSpPr>
        <p:spPr>
          <a:xfrm>
            <a:off x="4054320" y="127476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Luchthaven Indelingsbesluit (LI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183240" y="266760"/>
            <a:ext cx="710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Arial Unicode MS"/>
              </a:rPr>
              <a:t>Welkom in Haarlemmerme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71A6-E173-4858-AA91-11DF1C875E1F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5F2A-2F95-4519-96D6-DB23C2E9FA1B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614240" y="11631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Samenhang bestemmingsplannen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grpSp>
        <p:nvGrpSpPr>
          <p:cNvPr id="822" name="Group 3"/>
          <p:cNvGrpSpPr/>
          <p:nvPr/>
        </p:nvGrpSpPr>
        <p:grpSpPr>
          <a:xfrm>
            <a:off x="189000" y="2471760"/>
            <a:ext cx="7061040" cy="3932280"/>
            <a:chOff x="189000" y="2471760"/>
            <a:chExt cx="7061040" cy="3932280"/>
          </a:xfrm>
        </p:grpSpPr>
        <p:sp>
          <p:nvSpPr>
            <p:cNvPr id="823" name="AutoShape 4"/>
            <p:cNvSpPr/>
            <p:nvPr/>
          </p:nvSpPr>
          <p:spPr>
            <a:xfrm>
              <a:off x="189000" y="2471760"/>
              <a:ext cx="7061040" cy="3932280"/>
            </a:xfrm>
            <a:prstGeom prst="parallelogram">
              <a:avLst>
                <a:gd name="adj" fmla="val 6244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Freeform 5"/>
            <p:cNvSpPr/>
            <p:nvPr/>
          </p:nvSpPr>
          <p:spPr>
            <a:xfrm>
              <a:off x="1341000" y="2668680"/>
              <a:ext cx="4221000" cy="34686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Freeform 6"/>
            <p:cNvSpPr/>
            <p:nvPr/>
          </p:nvSpPr>
          <p:spPr>
            <a:xfrm>
              <a:off x="2088000" y="4262400"/>
              <a:ext cx="900360" cy="82332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Freeform 7"/>
            <p:cNvSpPr/>
            <p:nvPr/>
          </p:nvSpPr>
          <p:spPr>
            <a:xfrm>
              <a:off x="3932640" y="2924640"/>
              <a:ext cx="183600" cy="92016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Freeform 8"/>
            <p:cNvSpPr/>
            <p:nvPr/>
          </p:nvSpPr>
          <p:spPr>
            <a:xfrm>
              <a:off x="4943880" y="3739320"/>
              <a:ext cx="488160" cy="30312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9"/>
            <p:cNvSpPr/>
            <p:nvPr/>
          </p:nvSpPr>
          <p:spPr>
            <a:xfrm>
              <a:off x="2982600" y="3739320"/>
              <a:ext cx="1828800" cy="1093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Freeform 10"/>
            <p:cNvSpPr/>
            <p:nvPr/>
          </p:nvSpPr>
          <p:spPr>
            <a:xfrm>
              <a:off x="3656160" y="3315600"/>
              <a:ext cx="156960" cy="11988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Line 11"/>
            <p:cNvSpPr/>
            <p:nvPr/>
          </p:nvSpPr>
          <p:spPr>
            <a:xfrm>
              <a:off x="3568680" y="3542040"/>
              <a:ext cx="30960" cy="30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2149920" y="4581360"/>
              <a:ext cx="37080" cy="6120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4361760" y="3394080"/>
              <a:ext cx="490680" cy="37764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4460760" y="4027680"/>
              <a:ext cx="694440" cy="59724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815120" y="5209920"/>
              <a:ext cx="191520" cy="30132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603160" y="5183640"/>
              <a:ext cx="317520" cy="23076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1392480" y="5919120"/>
              <a:ext cx="322560" cy="21852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1889280" y="5654880"/>
              <a:ext cx="192240" cy="172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2988360" y="4483800"/>
              <a:ext cx="509040" cy="30996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2287080" y="4705200"/>
              <a:ext cx="397440" cy="36288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2677680" y="4713840"/>
              <a:ext cx="565560" cy="35424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22"/>
            <p:cNvSpPr/>
            <p:nvPr/>
          </p:nvSpPr>
          <p:spPr>
            <a:xfrm flipH="1" flipV="1">
              <a:off x="4137480" y="3650400"/>
              <a:ext cx="68400" cy="88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23"/>
            <p:cNvSpPr/>
            <p:nvPr/>
          </p:nvSpPr>
          <p:spPr>
            <a:xfrm flipH="1">
              <a:off x="4017600" y="3663720"/>
              <a:ext cx="119160" cy="181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24"/>
            <p:cNvSpPr/>
            <p:nvPr/>
          </p:nvSpPr>
          <p:spPr>
            <a:xfrm flipH="1">
              <a:off x="4356000" y="4412160"/>
              <a:ext cx="91800" cy="71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25"/>
            <p:cNvSpPr/>
            <p:nvPr/>
          </p:nvSpPr>
          <p:spPr>
            <a:xfrm>
              <a:off x="4356360" y="4483800"/>
              <a:ext cx="134640" cy="97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6"/>
            <p:cNvSpPr/>
            <p:nvPr/>
          </p:nvSpPr>
          <p:spPr>
            <a:xfrm>
              <a:off x="3245400" y="3962520"/>
              <a:ext cx="891720" cy="565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27"/>
            <p:cNvSpPr/>
            <p:nvPr/>
          </p:nvSpPr>
          <p:spPr>
            <a:xfrm>
              <a:off x="2060640" y="3482280"/>
              <a:ext cx="2399760" cy="222804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28"/>
            <p:cNvSpPr/>
            <p:nvPr/>
          </p:nvSpPr>
          <p:spPr>
            <a:xfrm>
              <a:off x="4079520" y="3315600"/>
              <a:ext cx="269640" cy="27360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9"/>
            <p:cNvSpPr/>
            <p:nvPr/>
          </p:nvSpPr>
          <p:spPr>
            <a:xfrm flipH="1">
              <a:off x="3932280" y="3845160"/>
              <a:ext cx="853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30"/>
            <p:cNvSpPr/>
            <p:nvPr/>
          </p:nvSpPr>
          <p:spPr>
            <a:xfrm flipV="1">
              <a:off x="4319280" y="3845160"/>
              <a:ext cx="37080" cy="41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31"/>
            <p:cNvSpPr/>
            <p:nvPr/>
          </p:nvSpPr>
          <p:spPr>
            <a:xfrm flipH="1" flipV="1">
              <a:off x="4205880" y="3739320"/>
              <a:ext cx="150480" cy="105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32"/>
            <p:cNvSpPr/>
            <p:nvPr/>
          </p:nvSpPr>
          <p:spPr>
            <a:xfrm>
              <a:off x="4319280" y="4262400"/>
              <a:ext cx="85320" cy="43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33"/>
            <p:cNvSpPr/>
            <p:nvPr/>
          </p:nvSpPr>
          <p:spPr>
            <a:xfrm flipV="1">
              <a:off x="4404600" y="4120920"/>
              <a:ext cx="43560" cy="18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34"/>
            <p:cNvSpPr/>
            <p:nvPr/>
          </p:nvSpPr>
          <p:spPr>
            <a:xfrm>
              <a:off x="4448160" y="4120920"/>
              <a:ext cx="12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35"/>
            <p:cNvSpPr/>
            <p:nvPr/>
          </p:nvSpPr>
          <p:spPr>
            <a:xfrm flipH="1">
              <a:off x="4447800" y="4120920"/>
              <a:ext cx="120600" cy="291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36"/>
            <p:cNvSpPr/>
            <p:nvPr/>
          </p:nvSpPr>
          <p:spPr>
            <a:xfrm>
              <a:off x="4852800" y="3663720"/>
              <a:ext cx="91080" cy="7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Freeform 37"/>
            <p:cNvSpPr/>
            <p:nvPr/>
          </p:nvSpPr>
          <p:spPr>
            <a:xfrm>
              <a:off x="2081520" y="5654880"/>
              <a:ext cx="1254240" cy="27900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Freeform 38"/>
            <p:cNvSpPr/>
            <p:nvPr/>
          </p:nvSpPr>
          <p:spPr>
            <a:xfrm>
              <a:off x="1969560" y="5050800"/>
              <a:ext cx="939240" cy="56556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39"/>
            <p:cNvSpPr/>
            <p:nvPr/>
          </p:nvSpPr>
          <p:spPr>
            <a:xfrm>
              <a:off x="2287080" y="5085720"/>
              <a:ext cx="241560" cy="194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Freeform 40"/>
            <p:cNvSpPr/>
            <p:nvPr/>
          </p:nvSpPr>
          <p:spPr>
            <a:xfrm>
              <a:off x="2746440" y="2817720"/>
              <a:ext cx="1801440" cy="148824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Freeform 41"/>
            <p:cNvSpPr/>
            <p:nvPr/>
          </p:nvSpPr>
          <p:spPr>
            <a:xfrm>
              <a:off x="2908800" y="4793760"/>
              <a:ext cx="1023480" cy="8766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Freeform 42"/>
            <p:cNvSpPr/>
            <p:nvPr/>
          </p:nvSpPr>
          <p:spPr>
            <a:xfrm>
              <a:off x="3207600" y="4235400"/>
              <a:ext cx="504000" cy="3888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Freeform 43"/>
            <p:cNvSpPr/>
            <p:nvPr/>
          </p:nvSpPr>
          <p:spPr>
            <a:xfrm>
              <a:off x="3207600" y="4719960"/>
              <a:ext cx="504000" cy="3891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44"/>
            <p:cNvSpPr/>
            <p:nvPr/>
          </p:nvSpPr>
          <p:spPr>
            <a:xfrm>
              <a:off x="3207600" y="4516560"/>
              <a:ext cx="0" cy="472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45"/>
            <p:cNvSpPr/>
            <p:nvPr/>
          </p:nvSpPr>
          <p:spPr>
            <a:xfrm>
              <a:off x="3435840" y="4628160"/>
              <a:ext cx="0" cy="472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46"/>
            <p:cNvSpPr/>
            <p:nvPr/>
          </p:nvSpPr>
          <p:spPr>
            <a:xfrm>
              <a:off x="3711600" y="4386960"/>
              <a:ext cx="0" cy="472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47"/>
            <p:cNvSpPr/>
            <p:nvPr/>
          </p:nvSpPr>
          <p:spPr>
            <a:xfrm flipH="1">
              <a:off x="3578040" y="4313520"/>
              <a:ext cx="111240" cy="129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48"/>
            <p:cNvSpPr/>
            <p:nvPr/>
          </p:nvSpPr>
          <p:spPr>
            <a:xfrm flipH="1">
              <a:off x="3575880" y="4809600"/>
              <a:ext cx="110880" cy="129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49"/>
            <p:cNvSpPr/>
            <p:nvPr/>
          </p:nvSpPr>
          <p:spPr>
            <a:xfrm flipH="1" flipV="1">
              <a:off x="3336120" y="4704840"/>
              <a:ext cx="416160" cy="234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50"/>
            <p:cNvSpPr/>
            <p:nvPr/>
          </p:nvSpPr>
          <p:spPr>
            <a:xfrm flipV="1">
              <a:off x="3245400" y="4809600"/>
              <a:ext cx="289080" cy="258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51"/>
            <p:cNvSpPr/>
            <p:nvPr/>
          </p:nvSpPr>
          <p:spPr>
            <a:xfrm>
              <a:off x="3934800" y="5045040"/>
              <a:ext cx="117000" cy="97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52"/>
            <p:cNvSpPr/>
            <p:nvPr/>
          </p:nvSpPr>
          <p:spPr>
            <a:xfrm flipH="1">
              <a:off x="3895560" y="5142600"/>
              <a:ext cx="156240" cy="153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53"/>
            <p:cNvSpPr/>
            <p:nvPr/>
          </p:nvSpPr>
          <p:spPr>
            <a:xfrm>
              <a:off x="3876120" y="5296320"/>
              <a:ext cx="107280" cy="125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54"/>
            <p:cNvSpPr/>
            <p:nvPr/>
          </p:nvSpPr>
          <p:spPr>
            <a:xfrm flipV="1">
              <a:off x="3787920" y="4514040"/>
              <a:ext cx="488880" cy="432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55"/>
            <p:cNvSpPr/>
            <p:nvPr/>
          </p:nvSpPr>
          <p:spPr>
            <a:xfrm>
              <a:off x="3885840" y="4528440"/>
              <a:ext cx="479160" cy="307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56"/>
            <p:cNvSpPr/>
            <p:nvPr/>
          </p:nvSpPr>
          <p:spPr>
            <a:xfrm flipV="1">
              <a:off x="4384440" y="4668120"/>
              <a:ext cx="176040" cy="153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57"/>
            <p:cNvSpPr/>
            <p:nvPr/>
          </p:nvSpPr>
          <p:spPr>
            <a:xfrm>
              <a:off x="3611880" y="3858480"/>
              <a:ext cx="68400" cy="1252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Text Box 58"/>
          <p:cNvSpPr/>
          <p:nvPr/>
        </p:nvSpPr>
        <p:spPr>
          <a:xfrm>
            <a:off x="6643800" y="4376880"/>
            <a:ext cx="21114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9999"/>
                </a:solidFill>
                <a:latin typeface="Arial"/>
              </a:rPr>
              <a:t>Ontwerp bestemmingsplan bestemmings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59"/>
          <p:cNvSpPr/>
          <p:nvPr/>
        </p:nvSpPr>
        <p:spPr>
          <a:xfrm>
            <a:off x="6716880" y="5487840"/>
            <a:ext cx="1650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9999"/>
                </a:solidFill>
                <a:latin typeface="Arial"/>
              </a:rPr>
              <a:t>Oud bestemmings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60"/>
          <p:cNvSpPr/>
          <p:nvPr/>
        </p:nvSpPr>
        <p:spPr>
          <a:xfrm>
            <a:off x="6421320" y="5010120"/>
            <a:ext cx="182520" cy="227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61"/>
          <p:cNvSpPr/>
          <p:nvPr/>
        </p:nvSpPr>
        <p:spPr>
          <a:xfrm>
            <a:off x="6421320" y="5592600"/>
            <a:ext cx="18252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62"/>
          <p:cNvSpPr/>
          <p:nvPr/>
        </p:nvSpPr>
        <p:spPr>
          <a:xfrm>
            <a:off x="6421320" y="4511520"/>
            <a:ext cx="182520" cy="2113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63"/>
          <p:cNvSpPr/>
          <p:nvPr/>
        </p:nvSpPr>
        <p:spPr>
          <a:xfrm>
            <a:off x="6702480" y="4989600"/>
            <a:ext cx="15447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9999"/>
                </a:solidFill>
                <a:latin typeface="Arial"/>
              </a:rPr>
              <a:t>Gebied onthou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64"/>
          <p:cNvSpPr/>
          <p:nvPr/>
        </p:nvSpPr>
        <p:spPr>
          <a:xfrm>
            <a:off x="714960" y="1728720"/>
            <a:ext cx="7439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9999"/>
                </a:solidFill>
                <a:latin typeface="Arial"/>
              </a:rPr>
              <a:t>Alle bestemmingsplangebieden en hoofdbestemmingen vormen el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9999"/>
                </a:solidFill>
                <a:latin typeface="Arial"/>
              </a:rPr>
              <a:t>1 aaneengesloten laag met informatie over het gehele grondgebied van de gemeente</a:t>
            </a:r>
            <a:r>
              <a:rPr b="1" lang="nl-NL" sz="2800" spc="-1" strike="noStrike">
                <a:solidFill>
                  <a:srgbClr val="33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Group 65"/>
          <p:cNvGrpSpPr/>
          <p:nvPr/>
        </p:nvGrpSpPr>
        <p:grpSpPr>
          <a:xfrm>
            <a:off x="7786800" y="185760"/>
            <a:ext cx="1144440" cy="1063440"/>
            <a:chOff x="7786800" y="185760"/>
            <a:chExt cx="1144440" cy="1063440"/>
          </a:xfrm>
        </p:grpSpPr>
        <p:sp>
          <p:nvSpPr>
            <p:cNvPr id="885" name="Freeform 66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solidFill>
              <a:srgbClr val="e6f0c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Freeform 67"/>
            <p:cNvSpPr/>
            <p:nvPr/>
          </p:nvSpPr>
          <p:spPr>
            <a:xfrm>
              <a:off x="7910280" y="238680"/>
              <a:ext cx="559440" cy="513720"/>
            </a:xfrm>
            <a:prstGeom prst="pi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Freeform 68"/>
            <p:cNvSpPr/>
            <p:nvPr/>
          </p:nvSpPr>
          <p:spPr>
            <a:xfrm>
              <a:off x="8007120" y="466920"/>
              <a:ext cx="612360" cy="6123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Freeform 69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Freeform 70"/>
            <p:cNvSpPr/>
            <p:nvPr/>
          </p:nvSpPr>
          <p:spPr>
            <a:xfrm>
              <a:off x="8043840" y="507960"/>
              <a:ext cx="385560" cy="38088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Freeform 71"/>
            <p:cNvSpPr/>
            <p:nvPr/>
          </p:nvSpPr>
          <p:spPr>
            <a:xfrm>
              <a:off x="7905600" y="186840"/>
              <a:ext cx="276120" cy="19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Freeform 72"/>
            <p:cNvSpPr/>
            <p:nvPr/>
          </p:nvSpPr>
          <p:spPr>
            <a:xfrm>
              <a:off x="7910280" y="547200"/>
              <a:ext cx="271440" cy="531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Freeform 73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solidFill>
              <a:srgbClr val="9b9b9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74"/>
            <p:cNvSpPr/>
            <p:nvPr/>
          </p:nvSpPr>
          <p:spPr>
            <a:xfrm>
              <a:off x="8182080" y="770760"/>
              <a:ext cx="437400" cy="30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75"/>
            <p:cNvSpPr/>
            <p:nvPr/>
          </p:nvSpPr>
          <p:spPr>
            <a:xfrm>
              <a:off x="8357040" y="238680"/>
              <a:ext cx="262440" cy="53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76"/>
            <p:cNvSpPr/>
            <p:nvPr/>
          </p:nvSpPr>
          <p:spPr>
            <a:xfrm>
              <a:off x="8345880" y="466920"/>
              <a:ext cx="12420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Freeform 77"/>
            <p:cNvSpPr/>
            <p:nvPr/>
          </p:nvSpPr>
          <p:spPr>
            <a:xfrm>
              <a:off x="8007120" y="694800"/>
              <a:ext cx="88200" cy="51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WordArt 78"/>
            <p:cNvSpPr txBox="1"/>
            <p:nvPr/>
          </p:nvSpPr>
          <p:spPr>
            <a:xfrm rot="3538800">
              <a:off x="8184960" y="613080"/>
              <a:ext cx="129240" cy="152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8" name="WordArt 79"/>
            <p:cNvSpPr txBox="1"/>
            <p:nvPr/>
          </p:nvSpPr>
          <p:spPr>
            <a:xfrm rot="3462600">
              <a:off x="8062560" y="214920"/>
              <a:ext cx="106200" cy="153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9" name="Freeform 80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noFill/>
            <a:ln cap="rnd" w="572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2AC1-023A-4A76-8520-F842E8BE6895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CBF1-681D-42AF-A14A-95C3DEE50325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Hoofdindeling DURP-model PRBP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904" name="Picture 3" descr=""/>
          <p:cNvPicPr/>
          <p:nvPr/>
        </p:nvPicPr>
        <p:blipFill>
          <a:blip r:embed="rId1"/>
          <a:stretch/>
        </p:blipFill>
        <p:spPr>
          <a:xfrm>
            <a:off x="1990800" y="2697120"/>
            <a:ext cx="5878440" cy="3352680"/>
          </a:xfrm>
          <a:prstGeom prst="rect">
            <a:avLst/>
          </a:prstGeom>
          <a:ln w="0">
            <a:noFill/>
          </a:ln>
        </p:spPr>
      </p:pic>
      <p:grpSp>
        <p:nvGrpSpPr>
          <p:cNvPr id="905" name="Group 4"/>
          <p:cNvGrpSpPr/>
          <p:nvPr/>
        </p:nvGrpSpPr>
        <p:grpSpPr>
          <a:xfrm>
            <a:off x="7786800" y="185760"/>
            <a:ext cx="1144440" cy="1063440"/>
            <a:chOff x="7786800" y="185760"/>
            <a:chExt cx="1144440" cy="1063440"/>
          </a:xfrm>
        </p:grpSpPr>
        <p:sp>
          <p:nvSpPr>
            <p:cNvPr id="906" name="Freeform 5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solidFill>
              <a:srgbClr val="e6f0c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6"/>
            <p:cNvSpPr/>
            <p:nvPr/>
          </p:nvSpPr>
          <p:spPr>
            <a:xfrm>
              <a:off x="7910280" y="238680"/>
              <a:ext cx="559440" cy="513720"/>
            </a:xfrm>
            <a:prstGeom prst="pi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7"/>
            <p:cNvSpPr/>
            <p:nvPr/>
          </p:nvSpPr>
          <p:spPr>
            <a:xfrm>
              <a:off x="8007120" y="466920"/>
              <a:ext cx="612360" cy="6123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8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9"/>
            <p:cNvSpPr/>
            <p:nvPr/>
          </p:nvSpPr>
          <p:spPr>
            <a:xfrm>
              <a:off x="8043840" y="507960"/>
              <a:ext cx="385560" cy="38088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Freeform 10"/>
            <p:cNvSpPr/>
            <p:nvPr/>
          </p:nvSpPr>
          <p:spPr>
            <a:xfrm>
              <a:off x="7905600" y="186840"/>
              <a:ext cx="276120" cy="19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Freeform 11"/>
            <p:cNvSpPr/>
            <p:nvPr/>
          </p:nvSpPr>
          <p:spPr>
            <a:xfrm>
              <a:off x="7910280" y="547200"/>
              <a:ext cx="271440" cy="531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12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solidFill>
              <a:srgbClr val="9b9b9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13"/>
            <p:cNvSpPr/>
            <p:nvPr/>
          </p:nvSpPr>
          <p:spPr>
            <a:xfrm>
              <a:off x="8182080" y="770760"/>
              <a:ext cx="437400" cy="30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14"/>
            <p:cNvSpPr/>
            <p:nvPr/>
          </p:nvSpPr>
          <p:spPr>
            <a:xfrm>
              <a:off x="8357040" y="238680"/>
              <a:ext cx="262440" cy="53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15"/>
            <p:cNvSpPr/>
            <p:nvPr/>
          </p:nvSpPr>
          <p:spPr>
            <a:xfrm>
              <a:off x="8345880" y="466920"/>
              <a:ext cx="12420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16"/>
            <p:cNvSpPr/>
            <p:nvPr/>
          </p:nvSpPr>
          <p:spPr>
            <a:xfrm>
              <a:off x="8007120" y="694800"/>
              <a:ext cx="88200" cy="51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WordArt 17"/>
            <p:cNvSpPr txBox="1"/>
            <p:nvPr/>
          </p:nvSpPr>
          <p:spPr>
            <a:xfrm rot="3538800">
              <a:off x="8184960" y="613080"/>
              <a:ext cx="129240" cy="152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9" name="WordArt 18"/>
            <p:cNvSpPr txBox="1"/>
            <p:nvPr/>
          </p:nvSpPr>
          <p:spPr>
            <a:xfrm rot="3462600">
              <a:off x="8062560" y="214920"/>
              <a:ext cx="106200" cy="153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20" name="Freeform 19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noFill/>
            <a:ln cap="rnd" w="572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2D76-C983-4B74-9821-68E606BC8292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8AFA-9E47-4C70-B585-C3C561055D44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36600" y="199044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PRBP2008-model  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926" name="Picture 21" descr=""/>
          <p:cNvPicPr/>
          <p:nvPr/>
        </p:nvPicPr>
        <p:blipFill>
          <a:blip r:embed="rId1"/>
          <a:stretch/>
        </p:blipFill>
        <p:spPr>
          <a:xfrm>
            <a:off x="468360" y="2743200"/>
            <a:ext cx="81421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Picture 2" descr=""/>
          <p:cNvPicPr/>
          <p:nvPr/>
        </p:nvPicPr>
        <p:blipFill>
          <a:blip r:embed="rId1"/>
          <a:stretch/>
        </p:blipFill>
        <p:spPr>
          <a:xfrm>
            <a:off x="0" y="372960"/>
            <a:ext cx="9144000" cy="6120000"/>
          </a:xfrm>
          <a:prstGeom prst="rect">
            <a:avLst/>
          </a:prstGeom>
          <a:ln w="0">
            <a:noFill/>
          </a:ln>
        </p:spPr>
      </p:pic>
      <p:grpSp>
        <p:nvGrpSpPr>
          <p:cNvPr id="928" name="Group 23"/>
          <p:cNvGrpSpPr/>
          <p:nvPr/>
        </p:nvGrpSpPr>
        <p:grpSpPr>
          <a:xfrm>
            <a:off x="5457960" y="3297240"/>
            <a:ext cx="1049040" cy="851040"/>
            <a:chOff x="5457960" y="3297240"/>
            <a:chExt cx="1049040" cy="851040"/>
          </a:xfrm>
        </p:grpSpPr>
        <p:sp>
          <p:nvSpPr>
            <p:cNvPr id="929" name="Text Box 6"/>
            <p:cNvSpPr/>
            <p:nvPr/>
          </p:nvSpPr>
          <p:spPr>
            <a:xfrm>
              <a:off x="5935680" y="3570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4"/>
            <p:cNvSpPr/>
            <p:nvPr/>
          </p:nvSpPr>
          <p:spPr>
            <a:xfrm>
              <a:off x="5457960" y="3297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5"/>
            <p:cNvSpPr/>
            <p:nvPr/>
          </p:nvSpPr>
          <p:spPr>
            <a:xfrm>
              <a:off x="5678640" y="3417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Text Box 7"/>
            <p:cNvSpPr/>
            <p:nvPr/>
          </p:nvSpPr>
          <p:spPr>
            <a:xfrm>
              <a:off x="6174000" y="3780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Text Box 8"/>
          <p:cNvSpPr/>
          <p:nvPr/>
        </p:nvSpPr>
        <p:spPr>
          <a:xfrm>
            <a:off x="7548480" y="444168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3"/>
          <p:cNvSpPr/>
          <p:nvPr/>
        </p:nvSpPr>
        <p:spPr>
          <a:xfrm>
            <a:off x="3062160" y="28321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Group 20"/>
          <p:cNvGrpSpPr/>
          <p:nvPr/>
        </p:nvGrpSpPr>
        <p:grpSpPr>
          <a:xfrm>
            <a:off x="388800" y="3335400"/>
            <a:ext cx="1265400" cy="582840"/>
            <a:chOff x="388800" y="3335400"/>
            <a:chExt cx="1265400" cy="582840"/>
          </a:xfrm>
        </p:grpSpPr>
        <p:sp>
          <p:nvSpPr>
            <p:cNvPr id="936" name="Text Box 15"/>
            <p:cNvSpPr/>
            <p:nvPr/>
          </p:nvSpPr>
          <p:spPr>
            <a:xfrm>
              <a:off x="1173240" y="3336840"/>
              <a:ext cx="48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16"/>
            <p:cNvSpPr/>
            <p:nvPr/>
          </p:nvSpPr>
          <p:spPr>
            <a:xfrm>
              <a:off x="388800" y="3335400"/>
              <a:ext cx="48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1771-0AF3-4651-A9DB-8728A6460883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142F-9C04-4619-ADEF-76FBAD607690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803240" y="145548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Mogelijke relaties tussen objecten: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942" name="Picture 3" descr=""/>
          <p:cNvPicPr/>
          <p:nvPr/>
        </p:nvPicPr>
        <p:blipFill>
          <a:blip r:embed="rId1"/>
          <a:stretch/>
        </p:blipFill>
        <p:spPr>
          <a:xfrm>
            <a:off x="1600200" y="2352600"/>
            <a:ext cx="7243920" cy="3998880"/>
          </a:xfrm>
          <a:prstGeom prst="rect">
            <a:avLst/>
          </a:prstGeom>
          <a:ln w="0">
            <a:noFill/>
          </a:ln>
        </p:spPr>
      </p:pic>
      <p:sp>
        <p:nvSpPr>
          <p:cNvPr id="943" name="Text Box 4"/>
          <p:cNvSpPr/>
          <p:nvPr/>
        </p:nvSpPr>
        <p:spPr>
          <a:xfrm>
            <a:off x="1811880" y="6338880"/>
            <a:ext cx="43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9999"/>
                </a:solidFill>
                <a:latin typeface="Arial"/>
              </a:rPr>
              <a:t>15 toegestane relaties!!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Group 5"/>
          <p:cNvGrpSpPr/>
          <p:nvPr/>
        </p:nvGrpSpPr>
        <p:grpSpPr>
          <a:xfrm>
            <a:off x="7786800" y="185760"/>
            <a:ext cx="1144440" cy="1063440"/>
            <a:chOff x="7786800" y="185760"/>
            <a:chExt cx="1144440" cy="1063440"/>
          </a:xfrm>
        </p:grpSpPr>
        <p:sp>
          <p:nvSpPr>
            <p:cNvPr id="945" name="Freeform 6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solidFill>
              <a:srgbClr val="e6f0c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Freeform 7"/>
            <p:cNvSpPr/>
            <p:nvPr/>
          </p:nvSpPr>
          <p:spPr>
            <a:xfrm>
              <a:off x="7910280" y="238680"/>
              <a:ext cx="559440" cy="513720"/>
            </a:xfrm>
            <a:prstGeom prst="pi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Freeform 8"/>
            <p:cNvSpPr/>
            <p:nvPr/>
          </p:nvSpPr>
          <p:spPr>
            <a:xfrm>
              <a:off x="8007120" y="466920"/>
              <a:ext cx="612360" cy="6123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Freeform 9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Freeform 10"/>
            <p:cNvSpPr/>
            <p:nvPr/>
          </p:nvSpPr>
          <p:spPr>
            <a:xfrm>
              <a:off x="8043840" y="507960"/>
              <a:ext cx="385560" cy="38088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Freeform 11"/>
            <p:cNvSpPr/>
            <p:nvPr/>
          </p:nvSpPr>
          <p:spPr>
            <a:xfrm>
              <a:off x="7905600" y="186840"/>
              <a:ext cx="276120" cy="19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Freeform 12"/>
            <p:cNvSpPr/>
            <p:nvPr/>
          </p:nvSpPr>
          <p:spPr>
            <a:xfrm>
              <a:off x="7910280" y="547200"/>
              <a:ext cx="271440" cy="531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Freeform 13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solidFill>
              <a:srgbClr val="9b9b9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Freeform 14"/>
            <p:cNvSpPr/>
            <p:nvPr/>
          </p:nvSpPr>
          <p:spPr>
            <a:xfrm>
              <a:off x="8182080" y="770760"/>
              <a:ext cx="437400" cy="30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Freeform 15"/>
            <p:cNvSpPr/>
            <p:nvPr/>
          </p:nvSpPr>
          <p:spPr>
            <a:xfrm>
              <a:off x="8357040" y="238680"/>
              <a:ext cx="262440" cy="53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Freeform 16"/>
            <p:cNvSpPr/>
            <p:nvPr/>
          </p:nvSpPr>
          <p:spPr>
            <a:xfrm>
              <a:off x="8345880" y="466920"/>
              <a:ext cx="12420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Freeform 17"/>
            <p:cNvSpPr/>
            <p:nvPr/>
          </p:nvSpPr>
          <p:spPr>
            <a:xfrm>
              <a:off x="8007120" y="694800"/>
              <a:ext cx="88200" cy="51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WordArt 18"/>
            <p:cNvSpPr txBox="1"/>
            <p:nvPr/>
          </p:nvSpPr>
          <p:spPr>
            <a:xfrm rot="3538800">
              <a:off x="8184960" y="613080"/>
              <a:ext cx="129240" cy="152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58" name="WordArt 19"/>
            <p:cNvSpPr txBox="1"/>
            <p:nvPr/>
          </p:nvSpPr>
          <p:spPr>
            <a:xfrm rot="3462600">
              <a:off x="8062560" y="214920"/>
              <a:ext cx="106200" cy="153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noFill/>
            <a:ln cap="rnd" w="572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A6F8-7455-4DBA-B49B-07371E3FC19F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021E-1C26-4A81-940C-6D2C3DBA7AB3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Hoe naar voorschriften?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grpSp>
        <p:nvGrpSpPr>
          <p:cNvPr id="964" name="Group 3"/>
          <p:cNvGrpSpPr/>
          <p:nvPr/>
        </p:nvGrpSpPr>
        <p:grpSpPr>
          <a:xfrm>
            <a:off x="912960" y="3067200"/>
            <a:ext cx="7522560" cy="3145680"/>
            <a:chOff x="912960" y="3067200"/>
            <a:chExt cx="7522560" cy="3145680"/>
          </a:xfrm>
        </p:grpSpPr>
        <p:grpSp>
          <p:nvGrpSpPr>
            <p:cNvPr id="965" name="Group 4"/>
            <p:cNvGrpSpPr/>
            <p:nvPr/>
          </p:nvGrpSpPr>
          <p:grpSpPr>
            <a:xfrm>
              <a:off x="912960" y="3067200"/>
              <a:ext cx="7522560" cy="3145680"/>
              <a:chOff x="912960" y="3067200"/>
              <a:chExt cx="7522560" cy="3145680"/>
            </a:xfrm>
          </p:grpSpPr>
          <p:sp>
            <p:nvSpPr>
              <p:cNvPr id="966" name="Line 5"/>
              <p:cNvSpPr/>
              <p:nvPr/>
            </p:nvSpPr>
            <p:spPr>
              <a:xfrm>
                <a:off x="7599240" y="3888720"/>
                <a:ext cx="0" cy="150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6"/>
              <p:cNvSpPr/>
              <p:nvPr/>
            </p:nvSpPr>
            <p:spPr>
              <a:xfrm>
                <a:off x="5699160" y="3888720"/>
                <a:ext cx="0" cy="150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7"/>
              <p:cNvSpPr/>
              <p:nvPr/>
            </p:nvSpPr>
            <p:spPr>
              <a:xfrm>
                <a:off x="3665160" y="3888720"/>
                <a:ext cx="0" cy="150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Line 8"/>
              <p:cNvSpPr/>
              <p:nvPr/>
            </p:nvSpPr>
            <p:spPr>
              <a:xfrm>
                <a:off x="1720440" y="3888720"/>
                <a:ext cx="0" cy="150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Rectangle 9"/>
              <p:cNvSpPr/>
              <p:nvPr/>
            </p:nvSpPr>
            <p:spPr>
              <a:xfrm>
                <a:off x="3890160" y="3067200"/>
                <a:ext cx="1645200" cy="51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339999"/>
                    </a:solidFill>
                    <a:latin typeface="Times New Roman"/>
                  </a:rPr>
                  <a:t>Bestemmingspla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Rectangle 10"/>
              <p:cNvSpPr/>
              <p:nvPr/>
            </p:nvSpPr>
            <p:spPr>
              <a:xfrm>
                <a:off x="912960" y="4305600"/>
                <a:ext cx="1645200" cy="51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339999"/>
                    </a:solidFill>
                    <a:latin typeface="Times New Roman"/>
                  </a:rPr>
                  <a:t>Hoofdbestemm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Rectangle 11"/>
              <p:cNvSpPr/>
              <p:nvPr/>
            </p:nvSpPr>
            <p:spPr>
              <a:xfrm>
                <a:off x="2865600" y="4305600"/>
                <a:ext cx="1645200" cy="51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339999"/>
                    </a:solidFill>
                    <a:latin typeface="Times New Roman"/>
                  </a:rPr>
                  <a:t>Bouwvla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Rectangle 12"/>
              <p:cNvSpPr/>
              <p:nvPr/>
            </p:nvSpPr>
            <p:spPr>
              <a:xfrm>
                <a:off x="4838400" y="4305600"/>
                <a:ext cx="1645200" cy="51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339999"/>
                    </a:solidFill>
                    <a:latin typeface="Times New Roman"/>
                  </a:rPr>
                  <a:t>Aandui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Rectangle 13"/>
              <p:cNvSpPr/>
              <p:nvPr/>
            </p:nvSpPr>
            <p:spPr>
              <a:xfrm>
                <a:off x="6790320" y="4305600"/>
                <a:ext cx="1645200" cy="51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339999"/>
                    </a:solidFill>
                    <a:latin typeface="Times New Roman"/>
                  </a:rPr>
                  <a:t>Dubbelbestemm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14"/>
              <p:cNvSpPr/>
              <p:nvPr/>
            </p:nvSpPr>
            <p:spPr>
              <a:xfrm>
                <a:off x="3890160" y="5697720"/>
                <a:ext cx="1645200" cy="51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339999"/>
                    </a:solidFill>
                    <a:latin typeface="Times New Roman"/>
                  </a:rPr>
                  <a:t>Voorschif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Line 15"/>
              <p:cNvSpPr/>
              <p:nvPr/>
            </p:nvSpPr>
            <p:spPr>
              <a:xfrm>
                <a:off x="1720440" y="3888720"/>
                <a:ext cx="587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Line 16"/>
              <p:cNvSpPr/>
              <p:nvPr/>
            </p:nvSpPr>
            <p:spPr>
              <a:xfrm>
                <a:off x="1720440" y="5391360"/>
                <a:ext cx="587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Line 17"/>
              <p:cNvSpPr/>
              <p:nvPr/>
            </p:nvSpPr>
            <p:spPr>
              <a:xfrm>
                <a:off x="4687200" y="358236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Line 18"/>
              <p:cNvSpPr/>
              <p:nvPr/>
            </p:nvSpPr>
            <p:spPr>
              <a:xfrm>
                <a:off x="4687200" y="539136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Group 19"/>
            <p:cNvGrpSpPr/>
            <p:nvPr/>
          </p:nvGrpSpPr>
          <p:grpSpPr>
            <a:xfrm>
              <a:off x="1560600" y="4068720"/>
              <a:ext cx="331560" cy="223560"/>
              <a:chOff x="1560600" y="4068720"/>
              <a:chExt cx="331560" cy="223560"/>
            </a:xfrm>
          </p:grpSpPr>
          <p:sp>
            <p:nvSpPr>
              <p:cNvPr id="981" name="Line 20"/>
              <p:cNvSpPr/>
              <p:nvPr/>
            </p:nvSpPr>
            <p:spPr>
              <a:xfrm flipH="1" flipV="1">
                <a:off x="1726200" y="4068720"/>
                <a:ext cx="16596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21"/>
              <p:cNvSpPr/>
              <p:nvPr/>
            </p:nvSpPr>
            <p:spPr>
              <a:xfrm flipV="1">
                <a:off x="1560600" y="4068720"/>
                <a:ext cx="16596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Group 22"/>
            <p:cNvGrpSpPr/>
            <p:nvPr/>
          </p:nvGrpSpPr>
          <p:grpSpPr>
            <a:xfrm>
              <a:off x="1572840" y="4843440"/>
              <a:ext cx="331560" cy="226080"/>
              <a:chOff x="1572840" y="4843440"/>
              <a:chExt cx="331560" cy="226080"/>
            </a:xfrm>
          </p:grpSpPr>
          <p:sp>
            <p:nvSpPr>
              <p:cNvPr id="984" name="Line 23"/>
              <p:cNvSpPr/>
              <p:nvPr/>
            </p:nvSpPr>
            <p:spPr>
              <a:xfrm flipH="1">
                <a:off x="1738440" y="4843440"/>
                <a:ext cx="165960" cy="22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24"/>
              <p:cNvSpPr/>
              <p:nvPr/>
            </p:nvSpPr>
            <p:spPr>
              <a:xfrm>
                <a:off x="1572840" y="4843440"/>
                <a:ext cx="165960" cy="22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Group 25"/>
            <p:cNvGrpSpPr/>
            <p:nvPr/>
          </p:nvGrpSpPr>
          <p:grpSpPr>
            <a:xfrm>
              <a:off x="3480120" y="4064400"/>
              <a:ext cx="331560" cy="223200"/>
              <a:chOff x="3480120" y="4064400"/>
              <a:chExt cx="331560" cy="223200"/>
            </a:xfrm>
          </p:grpSpPr>
          <p:sp>
            <p:nvSpPr>
              <p:cNvPr id="987" name="Line 26"/>
              <p:cNvSpPr/>
              <p:nvPr/>
            </p:nvSpPr>
            <p:spPr>
              <a:xfrm flipH="1" flipV="1">
                <a:off x="3645720" y="4064400"/>
                <a:ext cx="165960" cy="2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Line 27"/>
              <p:cNvSpPr/>
              <p:nvPr/>
            </p:nvSpPr>
            <p:spPr>
              <a:xfrm flipV="1">
                <a:off x="3480120" y="4064400"/>
                <a:ext cx="165960" cy="2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Group 28"/>
            <p:cNvGrpSpPr/>
            <p:nvPr/>
          </p:nvGrpSpPr>
          <p:grpSpPr>
            <a:xfrm>
              <a:off x="5551920" y="4071960"/>
              <a:ext cx="331560" cy="223200"/>
              <a:chOff x="5551920" y="4071960"/>
              <a:chExt cx="331560" cy="223200"/>
            </a:xfrm>
          </p:grpSpPr>
          <p:sp>
            <p:nvSpPr>
              <p:cNvPr id="990" name="Line 29"/>
              <p:cNvSpPr/>
              <p:nvPr/>
            </p:nvSpPr>
            <p:spPr>
              <a:xfrm flipH="1" flipV="1">
                <a:off x="5717520" y="4071960"/>
                <a:ext cx="165960" cy="2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Line 30"/>
              <p:cNvSpPr/>
              <p:nvPr/>
            </p:nvSpPr>
            <p:spPr>
              <a:xfrm flipV="1">
                <a:off x="5551920" y="4071960"/>
                <a:ext cx="165960" cy="2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Group 31"/>
            <p:cNvGrpSpPr/>
            <p:nvPr/>
          </p:nvGrpSpPr>
          <p:grpSpPr>
            <a:xfrm>
              <a:off x="7421040" y="4066920"/>
              <a:ext cx="331560" cy="226080"/>
              <a:chOff x="7421040" y="4066920"/>
              <a:chExt cx="331560" cy="226080"/>
            </a:xfrm>
          </p:grpSpPr>
          <p:sp>
            <p:nvSpPr>
              <p:cNvPr id="993" name="Line 32"/>
              <p:cNvSpPr/>
              <p:nvPr/>
            </p:nvSpPr>
            <p:spPr>
              <a:xfrm flipH="1" flipV="1">
                <a:off x="7586640" y="4066920"/>
                <a:ext cx="165960" cy="22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Line 33"/>
              <p:cNvSpPr/>
              <p:nvPr/>
            </p:nvSpPr>
            <p:spPr>
              <a:xfrm flipV="1">
                <a:off x="7421040" y="4066920"/>
                <a:ext cx="165960" cy="22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Group 34"/>
            <p:cNvGrpSpPr/>
            <p:nvPr/>
          </p:nvGrpSpPr>
          <p:grpSpPr>
            <a:xfrm>
              <a:off x="3496680" y="4853160"/>
              <a:ext cx="331560" cy="223560"/>
              <a:chOff x="3496680" y="4853160"/>
              <a:chExt cx="331560" cy="223560"/>
            </a:xfrm>
          </p:grpSpPr>
          <p:sp>
            <p:nvSpPr>
              <p:cNvPr id="996" name="Line 35"/>
              <p:cNvSpPr/>
              <p:nvPr/>
            </p:nvSpPr>
            <p:spPr>
              <a:xfrm flipH="1">
                <a:off x="3662280" y="4853160"/>
                <a:ext cx="16596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Line 36"/>
              <p:cNvSpPr/>
              <p:nvPr/>
            </p:nvSpPr>
            <p:spPr>
              <a:xfrm>
                <a:off x="3496680" y="4853160"/>
                <a:ext cx="16596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Group 37"/>
            <p:cNvGrpSpPr/>
            <p:nvPr/>
          </p:nvGrpSpPr>
          <p:grpSpPr>
            <a:xfrm>
              <a:off x="5544000" y="4847760"/>
              <a:ext cx="331560" cy="223560"/>
              <a:chOff x="5544000" y="4847760"/>
              <a:chExt cx="331560" cy="223560"/>
            </a:xfrm>
          </p:grpSpPr>
          <p:sp>
            <p:nvSpPr>
              <p:cNvPr id="999" name="Line 38"/>
              <p:cNvSpPr/>
              <p:nvPr/>
            </p:nvSpPr>
            <p:spPr>
              <a:xfrm flipH="1">
                <a:off x="5709600" y="4847760"/>
                <a:ext cx="16596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Line 39"/>
              <p:cNvSpPr/>
              <p:nvPr/>
            </p:nvSpPr>
            <p:spPr>
              <a:xfrm>
                <a:off x="5544000" y="4847760"/>
                <a:ext cx="16596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Group 40"/>
            <p:cNvGrpSpPr/>
            <p:nvPr/>
          </p:nvGrpSpPr>
          <p:grpSpPr>
            <a:xfrm>
              <a:off x="7445520" y="4843440"/>
              <a:ext cx="331560" cy="223200"/>
              <a:chOff x="7445520" y="4843440"/>
              <a:chExt cx="331560" cy="223200"/>
            </a:xfrm>
          </p:grpSpPr>
          <p:sp>
            <p:nvSpPr>
              <p:cNvPr id="1002" name="Line 41"/>
              <p:cNvSpPr/>
              <p:nvPr/>
            </p:nvSpPr>
            <p:spPr>
              <a:xfrm flipH="1">
                <a:off x="7611120" y="4843440"/>
                <a:ext cx="165960" cy="2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42"/>
              <p:cNvSpPr/>
              <p:nvPr/>
            </p:nvSpPr>
            <p:spPr>
              <a:xfrm>
                <a:off x="7445520" y="4843440"/>
                <a:ext cx="165960" cy="2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4" name="Line 43"/>
          <p:cNvSpPr/>
          <p:nvPr/>
        </p:nvSpPr>
        <p:spPr>
          <a:xfrm flipV="1">
            <a:off x="1698480" y="2017440"/>
            <a:ext cx="6400800" cy="4049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Line 44"/>
          <p:cNvSpPr/>
          <p:nvPr/>
        </p:nvSpPr>
        <p:spPr>
          <a:xfrm>
            <a:off x="1566720" y="2017800"/>
            <a:ext cx="6472440" cy="4005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Group 45"/>
          <p:cNvGrpSpPr/>
          <p:nvPr/>
        </p:nvGrpSpPr>
        <p:grpSpPr>
          <a:xfrm>
            <a:off x="7786800" y="185760"/>
            <a:ext cx="1144440" cy="1063440"/>
            <a:chOff x="7786800" y="185760"/>
            <a:chExt cx="1144440" cy="1063440"/>
          </a:xfrm>
        </p:grpSpPr>
        <p:sp>
          <p:nvSpPr>
            <p:cNvPr id="1007" name="Freeform 46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solidFill>
              <a:srgbClr val="e6f0c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Freeform 47"/>
            <p:cNvSpPr/>
            <p:nvPr/>
          </p:nvSpPr>
          <p:spPr>
            <a:xfrm>
              <a:off x="7910280" y="238680"/>
              <a:ext cx="559440" cy="513720"/>
            </a:xfrm>
            <a:prstGeom prst="pi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Freeform 48"/>
            <p:cNvSpPr/>
            <p:nvPr/>
          </p:nvSpPr>
          <p:spPr>
            <a:xfrm>
              <a:off x="8007120" y="466920"/>
              <a:ext cx="612360" cy="6123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Freeform 49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Freeform 50"/>
            <p:cNvSpPr/>
            <p:nvPr/>
          </p:nvSpPr>
          <p:spPr>
            <a:xfrm>
              <a:off x="8043840" y="507960"/>
              <a:ext cx="385560" cy="38088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Freeform 51"/>
            <p:cNvSpPr/>
            <p:nvPr/>
          </p:nvSpPr>
          <p:spPr>
            <a:xfrm>
              <a:off x="7905600" y="186840"/>
              <a:ext cx="276120" cy="19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Freeform 52"/>
            <p:cNvSpPr/>
            <p:nvPr/>
          </p:nvSpPr>
          <p:spPr>
            <a:xfrm>
              <a:off x="7910280" y="547200"/>
              <a:ext cx="271440" cy="531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Freeform 53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solidFill>
              <a:srgbClr val="9b9b9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Freeform 54"/>
            <p:cNvSpPr/>
            <p:nvPr/>
          </p:nvSpPr>
          <p:spPr>
            <a:xfrm>
              <a:off x="8182080" y="770760"/>
              <a:ext cx="437400" cy="30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Freeform 55"/>
            <p:cNvSpPr/>
            <p:nvPr/>
          </p:nvSpPr>
          <p:spPr>
            <a:xfrm>
              <a:off x="8357040" y="238680"/>
              <a:ext cx="262440" cy="53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Freeform 56"/>
            <p:cNvSpPr/>
            <p:nvPr/>
          </p:nvSpPr>
          <p:spPr>
            <a:xfrm>
              <a:off x="8345880" y="466920"/>
              <a:ext cx="12420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Freeform 57"/>
            <p:cNvSpPr/>
            <p:nvPr/>
          </p:nvSpPr>
          <p:spPr>
            <a:xfrm>
              <a:off x="8007120" y="694800"/>
              <a:ext cx="88200" cy="51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WordArt 58"/>
            <p:cNvSpPr txBox="1"/>
            <p:nvPr/>
          </p:nvSpPr>
          <p:spPr>
            <a:xfrm rot="3538800">
              <a:off x="8184960" y="613080"/>
              <a:ext cx="129240" cy="152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20" name="WordArt 59"/>
            <p:cNvSpPr txBox="1"/>
            <p:nvPr/>
          </p:nvSpPr>
          <p:spPr>
            <a:xfrm rot="3462600">
              <a:off x="8062560" y="214920"/>
              <a:ext cx="106200" cy="153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21" name="Freeform 60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noFill/>
            <a:ln cap="rnd" w="572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E33B-D1BA-4E80-B877-0333A75E5550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6936-6D51-4A15-A555-62E9DAF3B4CC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5" name="Picture 349" descr=""/>
          <p:cNvPicPr/>
          <p:nvPr/>
        </p:nvPicPr>
        <p:blipFill>
          <a:blip r:embed="rId1"/>
          <a:stretch/>
        </p:blipFill>
        <p:spPr>
          <a:xfrm>
            <a:off x="1065240" y="1765440"/>
            <a:ext cx="722952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EFA4-2B7F-411B-9D5B-E6C8C03CDD51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0A99-74E1-45CC-BBA0-E90C743B41DC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799920" y="15998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9999"/>
                </a:solidFill>
                <a:latin typeface="Arial"/>
              </a:rPr>
              <a:t>Communicatie met VROM over DURP</a:t>
            </a:r>
            <a:endParaRPr b="1" lang="en-US" sz="28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713880" y="2279160"/>
            <a:ext cx="812988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9999"/>
                </a:solidFill>
                <a:latin typeface="Arial"/>
              </a:rPr>
              <a:t>Bijdrage IMRO vanaf GFO RO en IMRO sinds 1998</a:t>
            </a:r>
            <a:endParaRPr b="0" lang="en-US" sz="1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9999"/>
                </a:solidFill>
                <a:latin typeface="Arial"/>
              </a:rPr>
              <a:t>Veel geïnvesteerd op oude IMRO-normen (2001 en 2003)</a:t>
            </a:r>
            <a:endParaRPr b="0" lang="en-US" sz="1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9999"/>
                </a:solidFill>
                <a:latin typeface="Arial"/>
              </a:rPr>
              <a:t>Reeds in 2005 gesprekken in Haarlemmermeer met VROM over lappendeken</a:t>
            </a:r>
            <a:endParaRPr b="0" lang="en-US" sz="1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9999"/>
                </a:solidFill>
                <a:latin typeface="Arial"/>
              </a:rPr>
              <a:t>Datum finale behandeling IMRO-beheercommissie na handtekening Rijk IPO VNG IMRO2006</a:t>
            </a:r>
            <a:endParaRPr b="0" lang="en-US" sz="1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9999"/>
                </a:solidFill>
                <a:latin typeface="Arial"/>
              </a:rPr>
              <a:t>Bezwaren bij lanceringbijeenkomst IMRO2006 doorgesproken VROM procesmanager</a:t>
            </a:r>
            <a:endParaRPr b="0" lang="en-US" sz="1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9999"/>
                </a:solidFill>
                <a:latin typeface="Arial"/>
              </a:rPr>
              <a:t>Bezwaren toegelicht op DURP dag in Arnhem</a:t>
            </a:r>
            <a:endParaRPr b="0" lang="en-US" sz="1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9999"/>
                </a:solidFill>
                <a:latin typeface="Arial"/>
              </a:rPr>
              <a:t>periode eind 2007 mei 2008 emails met senior beleidsmedewerker </a:t>
            </a:r>
            <a:endParaRPr b="0" lang="en-US" sz="1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9999"/>
                </a:solidFill>
                <a:latin typeface="Arial"/>
              </a:rPr>
              <a:t>Per oktober 2008 per email twee stukken verzonden:</a:t>
            </a:r>
            <a:endParaRPr b="0" lang="en-US" sz="1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9999"/>
                </a:solidFill>
                <a:latin typeface="Arial"/>
              </a:rPr>
              <a:t>Argumenten:</a:t>
            </a:r>
            <a:endParaRPr b="0" lang="en-US" sz="1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9999"/>
                </a:solidFill>
                <a:latin typeface="Arial"/>
              </a:rPr>
              <a:t>Er is veel bereikt, maar is dat genoeg?</a:t>
            </a:r>
            <a:endParaRPr b="0" lang="en-US" sz="12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9999"/>
                </a:solidFill>
                <a:latin typeface="Arial"/>
              </a:rPr>
              <a:t>Lerende organisatie, maar is er wel genoeg ruimte geweest voor afwijkende ideeën </a:t>
            </a:r>
            <a:endParaRPr b="0" lang="en-US" sz="12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9999"/>
                </a:solidFill>
                <a:latin typeface="Arial"/>
              </a:rPr>
              <a:t>Wel luisteren, maar te beperkt gevolg geven aan afwijkende ideeën</a:t>
            </a:r>
            <a:endParaRPr b="0" lang="en-US" sz="12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9999"/>
                </a:solidFill>
                <a:latin typeface="Arial"/>
              </a:rPr>
              <a:t>continue tijdsdruk door te weinig tijd plannen tussen IMRO-versies voor structurele zaken</a:t>
            </a:r>
            <a:endParaRPr b="0" lang="en-US" sz="12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9999"/>
                </a:solidFill>
                <a:latin typeface="Arial"/>
              </a:rPr>
              <a:t>doorschuifgedrag</a:t>
            </a:r>
            <a:endParaRPr b="0" lang="en-US" sz="12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9999"/>
                </a:solidFill>
                <a:latin typeface="Arial"/>
              </a:rPr>
              <a:t>heen en teug verwijzen naar GEONOVEM (terwijl vertegenwoordigers daarvan aan tafel zaten)</a:t>
            </a:r>
            <a:endParaRPr b="0" lang="en-US" sz="12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9999"/>
                </a:solidFill>
                <a:latin typeface="Arial"/>
              </a:rPr>
              <a:t>gemeente Haarlemmermeer opzadelen met landelijke businesscase</a:t>
            </a:r>
            <a:endParaRPr b="0" lang="en-US" sz="12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9999"/>
                </a:solidFill>
                <a:latin typeface="Arial"/>
              </a:rPr>
              <a:t>gepoogd IMRO op te nemen in RSGB</a:t>
            </a:r>
            <a:endParaRPr b="0" lang="en-US" sz="1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9999"/>
                </a:solidFill>
                <a:latin typeface="Arial"/>
              </a:rPr>
              <a:t>Waar is tweede trance WKPB?</a:t>
            </a:r>
            <a:endParaRPr b="0" lang="en-US" sz="14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7B77-3DD2-4EA3-8B83-03D1ED3A422A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46BC-4D2E-4978-AB17-0A1D98061A17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671480" y="1352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9999"/>
                </a:solidFill>
                <a:latin typeface="Arial"/>
              </a:rPr>
              <a:t>Tekortkomingen RO-online &amp; IMRO2008</a:t>
            </a:r>
            <a:endParaRPr b="1" lang="en-US" sz="28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65040" y="2265120"/>
            <a:ext cx="824544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implementatie voor uitwisseling: nog niet voor bieden rechtzekerheid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ontbreken degelijk onderzoek procesmodel 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basis is ten onrechte plan(gebied) i.p.v. bestemming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onvoldoende gebaseerd op principes basisregistraties (NORA en RSGB) 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register met brondocumenten (bp en bezwaarproc.) </a:t>
            </a:r>
            <a:r>
              <a:rPr b="0" lang="nl-NL" sz="1600" spc="-1" strike="noStrike">
                <a:solidFill>
                  <a:srgbClr val="ff3300"/>
                </a:solidFill>
                <a:latin typeface="Arial"/>
              </a:rPr>
              <a:t>en</a:t>
            </a: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 objectgerichte registratie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statussen en geldigheidsdata en brondocumenten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niet objectgericht 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wijzigende identificatie zelfde bestemming in verschillende versies zelfde plan 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geen oplossing doorsnijden nieuwe plannen in oude plannen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relatie tussen bestemming en aanduiding onjuist (moeilijke zo niet onmogelijke structurele modelmatige consistentiecontrole mogelijk)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geen mogelijkheid voor opslaan regels in datamodel (technisch eenvoudig)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wel toegezegde, maar nog geen oplossing paraplu-bestemmingen (o.a. LIB)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ruimtelijkeplannen.nl  biedt geen rechtzekerheid aan burger en ambtenaar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B54E-B961-42EC-9D84-4BB6447EC960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1F2B-9697-4183-A6C4-D566F69B8DB5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32040" y="1730520"/>
            <a:ext cx="67197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9999"/>
                </a:solidFill>
                <a:latin typeface="Arial"/>
              </a:rPr>
              <a:t>Gevolgen IMRO2008</a:t>
            </a:r>
            <a:endParaRPr b="1" lang="en-US" sz="28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7280" y="2367000"/>
            <a:ext cx="76928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IMRO2008 = Uitwisselingsmodel </a:t>
            </a:r>
            <a:r>
              <a:rPr b="0" lang="nl-NL" sz="2000" spc="-1" strike="noStrike">
                <a:solidFill>
                  <a:srgbClr val="339999"/>
                </a:solidFill>
                <a:latin typeface="Arial"/>
                <a:ea typeface="Arial"/>
              </a:rPr>
              <a:t>≠</a:t>
            </a: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 Basisregistratie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Geen leidende gemeentelijke bron en volgende landelijke voorziening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IMRO = digitale buizenpost (VROM ontvangt alleen, doet niets)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Geen sluitend model parapluibesluiten (LIB)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Geen integrale databaseopslag regels (hierdoor grote verschillen tussen gemeenten)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Burger en ambtenaar verdwalen in brei van documenten (met wijzigende sleutels bestemmingen en vage verwijzingen)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Waar is het onderliggende -brede- procesmodel?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Gevolg geen effectieve en efficiënte dienstverlening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1C6F-980F-466C-B6CC-934D0AF36D21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0F78-D398-4763-9AFF-C51F77CB91CF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Motto: Sturen op inhoud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overbruggen wetgeving en techniek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bijdrage leveren aan rijksontwikkelingen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organisatie op sleeptouw nemen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A58F-4887-4A49-B70E-366102814FF6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B984-BB4C-40A4-B960-6D501012CB42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657080" y="1526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9999"/>
                </a:solidFill>
                <a:latin typeface="Arial"/>
              </a:rPr>
              <a:t>Voorstel Haarlemmermeer aan VROM</a:t>
            </a:r>
            <a:endParaRPr b="1" lang="en-US" sz="28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599840" y="2192040"/>
            <a:ext cx="7010280" cy="39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Op naar een basisregistratie bestemming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Gezamenlijke pilot doen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Gedoseerde informatie aan de klan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Eenduidig en sluitend mod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Per plan een bestand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Juridische status volgt: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vaststellingsprocedure en 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bezwarenprocedure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Lappendeken oplossen met Geoplanstatus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Tijdelijke aanduiding voor datum 2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01F0-013A-4D37-8EAD-E3A68AC8D9FD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ijdelijke aanduiding voor voettekst 3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ijdelijke aanduiding voor dianummer 4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B871-F59B-4245-89B8-713D6D811535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79000" y="1918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Offerte Bentley 2007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1050" name="Picture 5" descr=""/>
          <p:cNvPicPr/>
          <p:nvPr/>
        </p:nvPicPr>
        <p:blipFill>
          <a:blip r:embed="rId1"/>
          <a:stretch/>
        </p:blipFill>
        <p:spPr>
          <a:xfrm>
            <a:off x="1143000" y="1619280"/>
            <a:ext cx="800100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9605-E6D1-4878-B69D-968973E8028D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2ED2-6197-44D1-A0E7-921FEB34458B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860480" y="380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Voorschriften pilot 1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1055" name="Picture 3" descr=""/>
          <p:cNvPicPr/>
          <p:nvPr/>
        </p:nvPicPr>
        <p:blipFill>
          <a:blip r:embed="rId1"/>
          <a:stretch/>
        </p:blipFill>
        <p:spPr>
          <a:xfrm>
            <a:off x="515880" y="1082520"/>
            <a:ext cx="8269200" cy="5908680"/>
          </a:xfrm>
          <a:prstGeom prst="rect">
            <a:avLst/>
          </a:prstGeom>
          <a:ln w="0">
            <a:noFill/>
          </a:ln>
        </p:spPr>
      </p:pic>
      <p:grpSp>
        <p:nvGrpSpPr>
          <p:cNvPr id="1056" name="Group 4"/>
          <p:cNvGrpSpPr/>
          <p:nvPr/>
        </p:nvGrpSpPr>
        <p:grpSpPr>
          <a:xfrm>
            <a:off x="7786800" y="185760"/>
            <a:ext cx="1144440" cy="1063440"/>
            <a:chOff x="7786800" y="185760"/>
            <a:chExt cx="1144440" cy="1063440"/>
          </a:xfrm>
        </p:grpSpPr>
        <p:sp>
          <p:nvSpPr>
            <p:cNvPr id="1057" name="Freeform 5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solidFill>
              <a:srgbClr val="e6f0c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6"/>
            <p:cNvSpPr/>
            <p:nvPr/>
          </p:nvSpPr>
          <p:spPr>
            <a:xfrm>
              <a:off x="7910280" y="238680"/>
              <a:ext cx="559440" cy="513720"/>
            </a:xfrm>
            <a:prstGeom prst="pi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7"/>
            <p:cNvSpPr/>
            <p:nvPr/>
          </p:nvSpPr>
          <p:spPr>
            <a:xfrm>
              <a:off x="8007120" y="466920"/>
              <a:ext cx="612360" cy="6123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8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9"/>
            <p:cNvSpPr/>
            <p:nvPr/>
          </p:nvSpPr>
          <p:spPr>
            <a:xfrm>
              <a:off x="8043840" y="507960"/>
              <a:ext cx="385560" cy="38088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10"/>
            <p:cNvSpPr/>
            <p:nvPr/>
          </p:nvSpPr>
          <p:spPr>
            <a:xfrm>
              <a:off x="7905600" y="186840"/>
              <a:ext cx="276120" cy="19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11"/>
            <p:cNvSpPr/>
            <p:nvPr/>
          </p:nvSpPr>
          <p:spPr>
            <a:xfrm>
              <a:off x="7910280" y="547200"/>
              <a:ext cx="271440" cy="531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Freeform 12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solidFill>
              <a:srgbClr val="9b9b9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Freeform 13"/>
            <p:cNvSpPr/>
            <p:nvPr/>
          </p:nvSpPr>
          <p:spPr>
            <a:xfrm>
              <a:off x="8182080" y="770760"/>
              <a:ext cx="437400" cy="30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Freeform 14"/>
            <p:cNvSpPr/>
            <p:nvPr/>
          </p:nvSpPr>
          <p:spPr>
            <a:xfrm>
              <a:off x="8357040" y="238680"/>
              <a:ext cx="262440" cy="53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Freeform 15"/>
            <p:cNvSpPr/>
            <p:nvPr/>
          </p:nvSpPr>
          <p:spPr>
            <a:xfrm>
              <a:off x="8345880" y="466920"/>
              <a:ext cx="12420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Freeform 16"/>
            <p:cNvSpPr/>
            <p:nvPr/>
          </p:nvSpPr>
          <p:spPr>
            <a:xfrm>
              <a:off x="8007120" y="694800"/>
              <a:ext cx="88200" cy="51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WordArt 17"/>
            <p:cNvSpPr txBox="1"/>
            <p:nvPr/>
          </p:nvSpPr>
          <p:spPr>
            <a:xfrm rot="3538800">
              <a:off x="8184960" y="613080"/>
              <a:ext cx="129240" cy="152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70" name="WordArt 18"/>
            <p:cNvSpPr txBox="1"/>
            <p:nvPr/>
          </p:nvSpPr>
          <p:spPr>
            <a:xfrm rot="3462600">
              <a:off x="8062560" y="214920"/>
              <a:ext cx="106200" cy="153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71" name="Freeform 19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noFill/>
            <a:ln cap="rnd" w="572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3775-7136-48C4-9869-492F35C9141E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50BB-051F-4050-A8B6-3569A7B3703B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10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3BF9-AEE7-4604-BEC6-195EA78E2094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52C3-B523-4B38-9397-CF40E80F00AF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1083" name="Picture 4" descr=""/>
          <p:cNvPicPr/>
          <p:nvPr/>
        </p:nvPicPr>
        <p:blipFill>
          <a:blip r:embed="rId1"/>
          <a:stretch/>
        </p:blipFill>
        <p:spPr>
          <a:xfrm>
            <a:off x="-2476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63C9-EA68-4843-A8A4-6FBB648BB9BE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BF50-1FF4-4E58-8C38-24E573600894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1089" name="Picture 4" descr=""/>
          <p:cNvPicPr/>
          <p:nvPr/>
        </p:nvPicPr>
        <p:blipFill>
          <a:blip r:embed="rId1"/>
          <a:stretch/>
        </p:blipFill>
        <p:spPr>
          <a:xfrm>
            <a:off x="-2476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1D58-4B86-42D9-BEA1-0EF90CE609A3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3A7F-2A8B-4B54-A548-AAB6A68A7F42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71400" y="1469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Samenwerking met Rijk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55120" y="2277720"/>
            <a:ext cx="805500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vanaf begin betrokken bij BAG: 1</a:t>
            </a:r>
            <a:r>
              <a:rPr b="0" lang="nl-NL" sz="2400" spc="-1" strike="noStrike" baseline="30000">
                <a:solidFill>
                  <a:srgbClr val="339999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 objectenhandboek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lid pilotgroep BAG en expertgroepen BAG-ICT, gebruiksoppervlakte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lid GOB en vraagzijde gemeenten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lid expertgroep evaluatie functioneel ontwerp mGBA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lid Kadaster en BAG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lid RSGB architectuur en RSGB WOZ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lid RSGB-STUF regiegroep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lid IOBR van CUR/Bouw Informatie Raad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DC9C-25E4-4AED-8D7B-DFDD0FC7B55F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141E-F3B2-4FD4-B12E-2D8EBBAD8021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57000" y="1455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Hoogtepunten Haarlemmermeer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61920" y="2190240"/>
            <a:ext cx="764856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Vastgoedbasisregistratie project 2000-2003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octrooi ruimtelijke databases (met 4 verschillende CAD-GIS systemen)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objectgericht gegevenswoordenboek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Project BAG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objectenhandboek versie 1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plan van aanpak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1</a:t>
            </a:r>
            <a:r>
              <a:rPr b="0" lang="nl-NL" sz="1600" spc="-1" strike="noStrike" baseline="30000">
                <a:solidFill>
                  <a:srgbClr val="339999"/>
                </a:solidFill>
                <a:latin typeface="Arial"/>
              </a:rPr>
              <a:t>e</a:t>
            </a: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  processenhandboek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invoering elektronische handtekening op brondocumenten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programma van eisen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applicatie Urbidata met aanvullende gegevens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1</a:t>
            </a:r>
            <a:r>
              <a:rPr b="0" lang="nl-NL" sz="1600" spc="-1" strike="noStrike" baseline="30000">
                <a:solidFill>
                  <a:srgbClr val="339999"/>
                </a:solidFill>
                <a:latin typeface="Arial"/>
              </a:rPr>
              <a:t>e</a:t>
            </a: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 gegevensintegratie op basis STUF3.0 tussen GIS en BAG-applicatie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Eerste integrale aanbesteding Frontoffice-Backoffice 2005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geodata transparant in een database en direct ontsloten op het internet voor dienstverlening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invoering gegevensmanagement als aparte taak in organisatie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nieuw gegevenswoordenboek op basis RSGB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7377-B171-4E63-849A-808DF9D04337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10A9-50AF-4762-A827-3F3FA5E82A89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25240" y="14410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Groeipijn gemeenten algemeen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2279520"/>
            <a:ext cx="91440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Gemeenten en leveranciers moeten processen en applicaties omvormen naar ketendenken en zaakgericht werken, ook eigen mensen moeten mee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landelijke producten soms tussenresultaten: onduidelijkheid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informatiearchitecturen NORA en GEMMA zijn vaak eindplaatjes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Onvoldoende kennis SOA-architectuur en webservices 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Oude software past niet bij SOA en geen 2 pakketten voor 1 taak 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gevolgen NUP migratiepad zijn voor veel gemeenten niet helder, wat voelt als niet maakbaar; grote risico’s: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aantal gemeenten heeft reorganisatie naar publieksdienst nog niet gemaakt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afhankelijkheid landelijke planningen nieuwe voorzieningen 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NUP planning leidt tot complex migratiepad met veel tijd en softwarematige afhankelijkheden, terwijl winkel moet open blijven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vooral lijnmanagement heeft weinig affiniteit nieuwe informatieontwikkelingen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vergt goed leiderschap in informatiefunctie 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grote investeringen, maar wat levert het op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9C02-FCE0-41AF-8080-5BF8BA2E60FC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77A8-0AA5-467A-A44C-C8B471FF573C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60040" y="1496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Risico’s in BAG-projec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11200" y="2320560"/>
            <a:ext cx="8245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doe ik de goede dingen op goede moment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voorloper heeft nog geen handreikingen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nieuwe dingen hoog risico: 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startsituatie kwaliteit informatie onduidelijk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vaak aanvullende acties/eisen vanuit het rijk invoegen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goede inschatting tijdsbeslag moeilijk </a:t>
            </a:r>
            <a:r>
              <a:rPr b="0" lang="nl-NL" sz="1800" spc="-1" strike="noStrike">
                <a:solidFill>
                  <a:srgbClr val="339999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 eerst pilot / proefgebied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veel extra versies software nodig: veel testen en extra kosten leveranciers en gemeenten 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bij BAG &gt; 10, te lange spanningsboog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interne reorganisatie en wisselend lijnmanagement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de devil is in de detail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problemen met de intern beschikbare capaciteit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moeilijke beheersing 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… </a:t>
            </a: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project wordt dan een proces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A0F3-7BCA-4AB2-9450-D0D4FA6C56E6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279B-2AB8-413A-8E69-8C8CE26BBAB0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42880" y="143964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Zorg voor het Rijk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63440" y="2133720"/>
            <a:ext cx="7546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samenhang in stelsel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verbindende gegevensrelaties liggen soms buiten stelsel BR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eenduidige structuren voor zowel BR als andere voorzieningen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basisregistraties meer richting RSGB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managen van tijdsaspecten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graag bestemmingen volgende basisregistratie VROM 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betrek gemeentelijke voorlopers (beter)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alle gemeenten op zelfde niveau krijgen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wetgeving blijvend moderniseren en op elkaar afstemmen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betrouwbare informatievoorziening aan burger eerste vereiste (=punt 7 burger service code)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rekeninghoudend met privacy burger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19FA-D063-4B82-92E6-C5C3773748DA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299D-584C-4CAA-96E3-1CF43D3DC71F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2:43:18Z</dcterms:created>
  <dc:creator>Rik Duursma</dc:creator>
  <dc:description/>
  <dc:language>en-US</dc:language>
  <cp:lastModifiedBy>duursmr</cp:lastModifiedBy>
  <cp:lastPrinted>2003-10-14T14:50:15Z</cp:lastPrinted>
  <dcterms:modified xsi:type="dcterms:W3CDTF">2010-02-15T16:29:54Z</dcterms:modified>
  <cp:revision>290</cp:revision>
  <dc:subject/>
  <dc:title>PowerPoint Presentation</dc:title>
</cp:coreProperties>
</file>